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AF0-E2F4-4341-9758-17273618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51B-C254-444D-9B65-4144CB72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94F-0BDC-481E-A87A-D74E9D26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3D0-A60C-403F-BCF5-61D82B0C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580A-3794-4122-81AF-E492F060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1D18-3588-4FF7-818B-1753653C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74BB-3217-4A3B-A98B-A7335974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5DAF-CFE1-48AE-8EEE-5A760C57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D17D-24DB-4303-BFDC-918AEBA3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19F6-BBC8-4761-A246-4FF46FB6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FA34-2F6B-487B-B2E8-FAF22A0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D12-2E2A-4A32-B3F3-02090425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8D78-443A-4677-A011-04777012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75BD-3964-434A-ACE8-0795B74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89DD-AB5C-4733-A864-0E64F7DC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A7C9-29B4-4737-A932-5FC9F8D3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3A3B-CA49-45FB-96B0-63DF2D18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670-92FB-4A7B-8473-AF884540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B70-F9AD-45E9-B261-82907921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51D-0D32-400B-8280-F3183BFA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BBA-2722-44E7-B785-2BBEAD2D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0D7-4268-44F8-A012-9E4F5EE2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FDD-5FFF-4DD1-B3F4-03F2536B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D44-84AE-44C0-9C13-2AEC8764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D1AF-2E5D-41CC-9D19-E9282CF20169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6360" y="6708600"/>
            <a:ext cx="909720" cy="1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0257-6EDA-4D89-8FDF-A91C4C56FB9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FEFF-07F0-4068-87B4-CBCCFD4FF0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cc0066"/>
                </a:solidFill>
                <a:latin typeface="Arial"/>
              </a:rPr>
              <a:t>粉底星星</a:t>
            </a:r>
            <a:r>
              <a:rPr b="0" lang="es-ES" sz="4000" spc="-1" strike="noStrike">
                <a:solidFill>
                  <a:srgbClr val="cc0066"/>
                </a:solidFill>
                <a:latin typeface="Arial"/>
                <a:ea typeface="宋体"/>
              </a:rPr>
              <a:t>PPT</a:t>
            </a:r>
            <a:r>
              <a:rPr b="0" lang="es-UY" sz="4000" spc="-1" strike="noStrike">
                <a:solidFill>
                  <a:srgbClr val="cc0066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15T17:55:57Z</dcterms:modified>
  <cp:revision>71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