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2E6-4C9B-45B9-AD96-0D93242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A4A-D559-45D4-9F9F-141AC8A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D6C-4A0F-4B89-A2C9-2A21AE8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6D7-BBC9-4C22-9FC2-D38F590B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B43-19FD-4FB7-959D-845E256A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FA1-78C2-41BB-ACA2-30C592CE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1EC-675F-4369-9AAF-FA03F12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039-1F8D-4C83-B5BD-058463D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751-EA70-452C-9AF0-FE22439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3F3-24CB-4E9E-9765-A0D4A226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939-3AEB-444C-BAF7-70F7AB2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AA4-DCB0-46BC-897E-8AF88CD1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81A-ACC7-4C39-B50D-B58E429ED66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956-0D5A-4E83-9E7D-55441301DD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276360"/>
            <a:ext cx="7010280" cy="763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告别单身情人节</a:t>
            </a: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ppt</a:t>
            </a: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模板</a:t>
            </a:r>
            <a:endParaRPr b="0" lang="en-US" sz="42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600" y="396216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793c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8899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793c7"/>
              </a:solidFill>
              <a:latin typeface="Microsoft Sans Serif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Verdana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a</cp:lastModifiedBy>
  <dcterms:modified xsi:type="dcterms:W3CDTF">2014-12-21T05:44:37Z</dcterms:modified>
  <cp:revision>108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