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ACF-84D8-484E-8D9E-61B51EBE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32B-A9D0-432A-B4B1-7737AA48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8E4-27C0-41E1-8C14-77CAA0E0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F31-2B8B-4A09-A8C9-D60628B3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AEBF-78ED-4E51-868E-761591AE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03AA-1B52-4360-A89B-8450F03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46BA-4B1C-4087-B470-529CD751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FCC-D256-469A-8DE8-A502B6B5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D12C-52E8-405B-96D6-63760952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E457-94DF-4C8A-B944-13C0E8E6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6D57-14CE-4B2A-8A60-B6174F70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F1A-C7D5-4BAF-871F-4BC1349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ACC8-2CFA-4A1A-9AA2-F086F814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D487-2454-41C4-A116-F50D7FB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1265-D435-4F9B-A833-06712207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290E-039D-47A4-9900-87C837C8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6A05-1AAC-40CF-BC14-743622E8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FEE1-B2C4-448D-B7BD-BB77990F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C387-089B-4239-B3AA-B8C596C8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5FBE-E553-4A56-BC6C-73997DED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13BD-B11E-4474-8AB1-55A395A3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A5FC2-3618-465A-BC7E-10A93ADD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7BCC-B294-4F52-9126-A8F2051D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E8D4-85D6-4CD9-B6BB-561C2C0A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8749-E928-48C6-937A-A9652E72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1632C-FC89-48C8-A41D-E9B7CD1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44BD-544F-45A1-8B3F-2BB07836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185C-8F17-46A5-A680-0F725616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2692-69E4-485E-9693-496565FB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9D51-3CAD-4F62-BFDB-5947EBAE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7A1-751A-4C82-95F5-3F2FB2EB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598-ED23-48EE-B784-B029BA58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48B-4921-46DF-B983-5883DF35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920-B9C0-4FCC-95A7-3F99E234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B1B-AB6B-4A60-8B3E-5F9F73FA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4FE-91A3-4EE2-9569-0258EAC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未标题-41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157-F16D-4C53-B653-89E14DD95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未标题-42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AA26-AAE7-4A62-BE0D-C58FB4E6C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F575-D1C8-4B17-A6E6-BF17ABD418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3D24-4C42-46D7-A6B4-80D34DBC38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35:57Z</dcterms:created>
  <dc:creator>Administrator</dc:creator>
  <dc:description/>
  <cp:keywords/>
  <dc:language>en-US</dc:language>
  <cp:lastModifiedBy>a</cp:lastModifiedBy>
  <dcterms:modified xsi:type="dcterms:W3CDTF">2014-05-24T09:24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