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6329-D712-4581-A964-2A9262C6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4C1D-82D4-4459-AB34-17168181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FE1-24B4-4767-9A39-95D7A0059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B20-9548-420D-8714-BB9EEF68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60A9-E171-4AFE-B89A-BC278CBA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DEAF-11FB-4C8A-BFAE-43EC9281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92D8-856F-4E5A-BCE9-A8FC61DF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3AD1-6CF1-42FD-929A-3161BFFE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BEEE-0718-4DE0-B294-ED43D746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1B74-648C-47BB-9119-2A33216F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C6CC-B672-4880-B1D4-7344CCA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28E-BEC2-4C38-BDA1-27B4F99D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9CF6-2500-4C86-A592-8F0A547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E9B-48DC-48E1-B540-65F33DEC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75C-C4E7-400D-A8EB-FE174932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3AE68-B9C8-4435-A200-7122BC47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23C4-E9E7-4B09-94B4-7E558929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634-3056-4801-9797-8DF78BD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7C45-E589-4B17-B8F8-D0B53386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E73-97B7-41F1-B398-09D6284F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E9EC-84AC-4057-BF56-4F87320D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2392-9E66-408F-8310-34B5669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B57-7057-4E82-A0AC-C69BF8F8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AAE4-62CE-4BE6-9D9F-E640FD0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172360" y="6669000"/>
            <a:ext cx="933480" cy="162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CA11-BB5B-4C60-955E-5B09C9A6D790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A031-E81F-4102-87BE-232CFEC5C4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BF09-B0AB-4F05-B7FF-758ADF2769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高贵郁金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s-E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s-E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s-E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a</cp:lastModifiedBy>
  <dcterms:modified xsi:type="dcterms:W3CDTF">2014-12-31T03:39:57Z</dcterms:modified>
  <cp:revision>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