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A14-FB3D-46A3-BC6E-DDA0BF3C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B47-1961-4500-B344-009D64F7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969-7F26-42FA-A532-9756B41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3D2-E70E-4DA2-A0D0-1A80319E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1719-183C-489A-9548-E63D8AB3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3DF-E553-4BC1-899E-D151C79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B2E-8793-4C83-9EDD-F7BE3D0B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94C-A9AE-4A17-9DBB-0B5C537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7FF-C811-49A0-ABA0-0A790954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A9D-63ED-4109-AEBE-B454C54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BE32-9BD9-4FBD-8506-B42275C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2BD-C87D-4586-A8B8-3475DD2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FC61-2BA2-42DF-BEB5-C115174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8C40-6B4E-4DE5-AA69-9AE2CEC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2B0B-8CF0-45BC-B343-920F52F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127-282D-4F77-8667-4D71BAB1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BDCC-8451-4A60-BC4B-4F22219B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E5E-9E1B-4FC5-973D-FCD8BAAF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FFE-69A0-4A8F-B36B-44C2CF72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710-BAF7-4037-915C-7EC3F24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738-4A66-4D8A-A0DE-C7B5A9E1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6E5-7A65-4D68-9FE3-B241604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649-0146-4DF4-A1D5-083DD1F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6E6-E0EA-4919-9DD1-6AF0748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985-EB9F-45EC-B577-346888104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9E8C-0F60-4345-8B2E-AD37B89401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5B4-ED00-44CE-ABBB-CE17D9B78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084720" y="3860640"/>
            <a:ext cx="648000" cy="12258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225800"/>
              <a:gd name="textAreaBottom" fmla="*/ 1194480 h 1225800"/>
            </a:gdLst>
            <a:ahLst/>
            <a:rect l="textAreaLeft" t="textAreaTop" r="textAreaRight" b="textAreaBottom"/>
            <a:pathLst>
              <a:path w="21600" h="40849">
                <a:moveTo>
                  <a:pt x="3600" y="0"/>
                </a:moveTo>
                <a:arcTo wR="3600" hR="3600" stAng="16200000" swAng="-5400000"/>
                <a:lnTo>
                  <a:pt x="0" y="37249"/>
                </a:lnTo>
                <a:arcTo wR="3600" hR="3600" stAng="10800000" swAng="-5400000"/>
                <a:lnTo>
                  <a:pt x="18000" y="40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48360" y="3860640"/>
            <a:ext cx="649440" cy="122580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40759">
                <a:moveTo>
                  <a:pt x="3600" y="0"/>
                </a:moveTo>
                <a:arcTo wR="3600" hR="3600" stAng="16200000" swAng="-5400000"/>
                <a:lnTo>
                  <a:pt x="0" y="37159"/>
                </a:lnTo>
                <a:arcTo wR="3600" hR="3600" stAng="10800000" swAng="-5400000"/>
                <a:lnTo>
                  <a:pt x="18000" y="407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Y_([_$]CVV`B166VE]TTI}1"/>
          <p:cNvPicPr/>
          <p:nvPr/>
        </p:nvPicPr>
        <p:blipFill>
          <a:blip r:embed="rId1"/>
          <a:stretch/>
        </p:blipFill>
        <p:spPr>
          <a:xfrm>
            <a:off x="6084720" y="5086440"/>
            <a:ext cx="158436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6084720" y="2278080"/>
            <a:ext cx="1584360" cy="1584360"/>
          </a:xfrm>
          <a:prstGeom prst="foldedCorner">
            <a:avLst>
              <a:gd name="adj" fmla="val 12500"/>
            </a:avLst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6e6f45f0tw1dr5cqbhl2cj"/>
          <p:cNvPicPr/>
          <p:nvPr/>
        </p:nvPicPr>
        <p:blipFill>
          <a:blip r:embed="rId2"/>
          <a:stretch/>
        </p:blipFill>
        <p:spPr>
          <a:xfrm>
            <a:off x="3276720" y="4437000"/>
            <a:ext cx="72072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132000" y="2349360"/>
            <a:ext cx="176076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业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3080" y="40428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个人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}DV{(0%KA3P{){7Q(MH3MKW"/>
          <p:cNvPicPr/>
          <p:nvPr/>
        </p:nvPicPr>
        <p:blipFill>
          <a:blip r:embed="rId3"/>
          <a:stretch/>
        </p:blipFill>
        <p:spPr>
          <a:xfrm>
            <a:off x="3132000" y="3573360"/>
            <a:ext cx="7207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60360" y="1486080"/>
            <a:ext cx="6400800" cy="790560"/>
          </a:xfrm>
          <a:prstGeom prst="rect">
            <a:avLst/>
          </a:prstGeom>
          <a:solidFill>
            <a:srgbClr val="00cc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9XXXXXX                            XXXXXX34@163.com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4"/>
          <a:stretch/>
        </p:blipFill>
        <p:spPr>
          <a:xfrm>
            <a:off x="4140360" y="1774800"/>
            <a:ext cx="72072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0DR(QVM(K1NA}`89X[X[KR5"/>
          <p:cNvPicPr/>
          <p:nvPr/>
        </p:nvPicPr>
        <p:blipFill>
          <a:blip r:embed="rId5"/>
          <a:stretch/>
        </p:blipFill>
        <p:spPr>
          <a:xfrm>
            <a:off x="1332000" y="1773360"/>
            <a:ext cx="647640" cy="43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(PE]MQL8X4SLZY9W(EPO[~I"/>
          <p:cNvPicPr/>
          <p:nvPr/>
        </p:nvPicPr>
        <p:blipFill>
          <a:blip r:embed="rId6"/>
          <a:stretch/>
        </p:blipFill>
        <p:spPr>
          <a:xfrm>
            <a:off x="3852720" y="37893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EGT71SSFKI~(3GIZ7BMAO2Y"/>
          <p:cNvPicPr/>
          <p:nvPr/>
        </p:nvPicPr>
        <p:blipFill>
          <a:blip r:embed="rId7"/>
          <a:stretch/>
        </p:blipFill>
        <p:spPr>
          <a:xfrm>
            <a:off x="3060720" y="5229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1260360" y="2276640"/>
            <a:ext cx="1800360" cy="377820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356000" y="2276640"/>
            <a:ext cx="1728720" cy="393444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J3(S){{AW)(OYPXJZ58S1{8"/>
          <p:cNvPicPr/>
          <p:nvPr/>
        </p:nvPicPr>
        <p:blipFill>
          <a:blip r:embed="rId8"/>
          <a:stretch/>
        </p:blipFill>
        <p:spPr>
          <a:xfrm>
            <a:off x="3419640" y="2781360"/>
            <a:ext cx="86508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6084720" y="2349360"/>
            <a:ext cx="6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732720" y="2352600"/>
            <a:ext cx="93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6181560" y="5583240"/>
            <a:ext cx="14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抗          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6084720" y="436572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信     反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6732720" y="2276640"/>
            <a:ext cx="1440" cy="15840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2629080" y="10540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3060720" y="10540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m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7T00:58:42Z</dcterms:modified>
  <cp:revision>1</cp:revision>
  <dc:subject/>
  <dc:title>xxx的个人简历</dc:title>
</cp:coreProperties>
</file>