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BC0-CB7E-4630-A90A-2F17E950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183-82D5-49FA-A9EA-43ED4D43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85E-4944-4F2C-893A-707E4254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68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44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68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44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979-382B-4F6E-9D0D-37E9C6B2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4905-2E97-43D1-A13B-88BE1AAB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13FB-6910-4D09-A163-1A6C52E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94D9-D073-453A-B13C-E54CC06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0DCD-E4E9-44F8-B201-0C11045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9972-15AE-41DD-86A7-E6C5181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6920" y="274320"/>
            <a:ext cx="786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3693-FF6D-4F5B-922B-CD72F4C5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86E4-672F-46F9-90DD-1105635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66F-C0BE-476D-9E99-B43B9F33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F426-92B8-4AFB-88A9-C041B58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AD71-698D-4481-BD55-5202FF7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1F8C-5BFA-4DF4-A261-8E5FCE8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6B81-F5AD-4249-825C-70D07DFC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68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844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68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844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4610-5CF4-4AC1-AC8E-5695FD39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126-BA72-4CBE-95D6-BD075CA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51E-2BCD-45FB-97B0-DF2DA2A2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57C-DB60-4E87-9AC4-5602B58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6920" y="274320"/>
            <a:ext cx="786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7A8-0DBB-4118-B3A7-C4EB519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7FC-1CA9-4E85-B3B2-150DBC1E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2B5-B3D9-4CA5-80E7-0B78AD92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4D1-E464-4FF5-9740-293F727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4456-CD12-4C4E-93FD-5EF12B279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1595520" y="1600200"/>
            <a:ext cx="786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E5F3-D424-4A5E-9D59-42ACB462C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黑板教学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演示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dc:language>en-US</dc:language>
  <cp:lastModifiedBy>a</cp:lastModifiedBy>
  <dcterms:modified xsi:type="dcterms:W3CDTF">2014-12-31T03:41:39Z</dcterms:modified>
  <cp:revision>44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