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91F9-06CF-470F-8737-B9E1E719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0BAA-6546-461F-A456-7774A1E2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344A9-C415-4ED8-9A3F-CC9D228A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A1500-DECD-40C5-AA6D-AC5CD8A2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249B6-416E-4C05-B170-033F09D7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4D4C3-9838-4D91-B37A-FA8A52AD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E9BD9-E71F-4797-97CB-613765B3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2ACBB-4A2C-43C9-A16C-48582FAB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5922F-8FB1-4E53-A8A0-27CCE714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2D31E-866F-4137-85AF-2480E869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B4570-3B6A-4755-ACD4-DFBF59FA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B7539-64BC-4BF9-9307-874A30F1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9D59-D617-4C62-BC7D-E3158057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BAB1C-6C0F-40C9-A099-33CE7C60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18EA6-0CFD-4833-B305-786E8E0B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F25D6-D7E8-4F93-9AEC-2A2AECEF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63388-D18D-4016-8379-D9CB7CDD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5DA41-CC0C-46F1-9E02-D58945DD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ABC8D-211A-4137-866B-25AA3E6B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86760-0C83-4D29-9567-D146B33E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B937C-709C-4A20-B3AD-44E3A444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8B227-4EDD-4E4E-A554-89EA444B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8465E-7D12-435E-9F2E-965965AA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8B5C-31B2-4535-A270-D549BB70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979E3-E4A0-4F9D-ADDA-484FC380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0A859-1296-4C8B-9D1B-446B468F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48547-90E4-40E5-A1AC-24A3A972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313F4-7C2D-4894-A873-D7B0D79A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FEAB8-8B68-494F-8C95-FE77DEC7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6907B-E859-4132-B16C-EAB2EEDA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3CF3D-E46F-4716-AD47-1C40F5EB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CCF8D-FB58-4943-BE8F-508A037C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8BEE5-4B6C-472A-AF1F-0A3E71F6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9A869-26EE-4D68-A87F-51ADC1CF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1641-0FA2-4BCB-B297-3DDE6C99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F8E41-F536-4F5C-9A20-BF171E3B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E308B-59FD-4F2A-9E89-34112958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5ACC8-EDEC-43C7-9500-15A52AEB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444D0-FD6E-492E-BE9B-FD2F434B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6E05C-66A1-4C79-9AE4-3CE7DAAF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C4050-5EC9-46F0-89C9-E23C427F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602DC-7F00-4266-B3A2-7C6015A5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46132-7766-4D3F-8973-D6CF3228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F8482-FEA1-45A4-A23B-4CE416E5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8DBEF-A4DC-4A73-BC1F-EAD0616E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902D-C67C-4955-8CC9-1F2CDC6F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04219-AC4A-4719-A04C-95719F5B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B4D59-E538-42EA-8CD5-757E6136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1998D-D9E6-430A-8A30-983AFC7B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6942E-ED35-4FB6-8681-71AA0030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EA38B-52A1-43DC-B52F-CF346BC3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31B654-C54E-4C7F-BD7F-4B7D9410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DFB467-208A-416B-A538-1B2D6C28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B4CCC-2768-43E1-BFB1-78B1686D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F4825-C622-4B26-BE85-3971D000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D9EC8-5F4C-424A-B436-7F403DCD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6A2A-B490-433E-9E10-0F0F8399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9E48EB-BF60-4280-8627-343E122B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089798-595E-4AD1-BF74-6932DE53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4D6E8B-3437-48DA-B01B-3A72C0F0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8F523-E509-45EC-9FBD-27F9AF39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70CB35-9DDA-457A-865E-5592F36C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8040F8-B03E-485C-87A0-46BDB957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D0F81-90F5-4A79-8E6B-D2483D23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49A20C-8CA0-46B2-998E-A876C745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EF26AD-1BC4-4F3B-9D2F-C37044C8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3973D3-8004-450E-A624-0462F66A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273C-239C-4EC3-875F-ED6D6E49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6C405E-70CD-4591-9634-F0A9293E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7D1955-945F-469A-BFAF-CA204940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F41512-B52E-4EC1-9889-B046EBB3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0507BB-D43B-466E-9A9D-0AF7609C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B55A8-3C85-4492-A934-3857687C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C2B099-93F5-4897-9849-5E74DD31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86EF01-706B-4B1C-BD61-FA46692D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55760E-2A7D-43A5-961E-A9D9C61D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AECF61-46CC-4FC3-90D9-78735FF6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EFF5-E813-4EBF-BE57-DE5AB643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0D60-E42C-45F9-BD0C-9AF5A489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0FB9-69D9-4654-99EB-91FA472F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3B3D-E816-485B-A737-3DFCF2D7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D75B-4C78-465A-879F-707A5526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CB37-40A1-4F50-AEFA-25BC7AD8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C299-0662-4DAA-89DE-72708BE2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2177-2826-478A-8091-D1AD7FD4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5A02-C856-4965-BF9B-C5CF7535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3DFA6-A484-45B2-B3BE-140CB2C4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8DCA3-9680-40AC-B8D4-5407F71F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A337C-2D9F-48A2-BE99-7543C79E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7067E-7999-4761-A924-C1902DA7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A54E8-921C-4500-B91A-B57608A3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9B7E-4498-4AB7-BAED-468FB10C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A285A-A779-47D9-91F2-5F9D3BAB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B3E5B-BB77-4AB6-AA5E-5FB331E2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24B0A-FC2F-4FA7-9BE4-9BA57F9B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163D3-D62E-436C-8C4D-27317AAC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1A1D4-3842-482A-9281-D6476701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F3E5C-BDE0-44C5-AF4D-208499FB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ED328-23C5-4D62-A768-B63E1CA4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DDBDC-12B1-40E5-9BEC-D068FFEE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9FF6F-A067-4308-BACB-9A0D5A17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D2786-916D-4E57-A6C9-4A18EA69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284D-424C-4BB6-B18B-2F642658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EF967-E216-4325-83B6-E6752C6C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0A0E9-8FD9-4BEC-9FB2-3FFED7E1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3DAC0-4467-4B85-8105-A7739B7A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6FE27-D49C-464B-BA9E-9D1C47DA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3D3B0-CF48-455C-B5D0-01EEC0FB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5D0A5-9233-4D3F-8B95-00C8040E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36A2F-D9CB-4B3E-8FBF-71646C65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BD4D1-33D1-43A1-BF2C-1478FF65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3337F-D23B-4C7D-B98D-F1E6BF17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68125-FD3A-4E5B-9E1F-2B99E6BC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B91-3C04-46F6-A1D4-F5249508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6E187-9FC2-4A99-8062-90A29A7E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8FDAC-9B78-4CE7-9359-0A9EA551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3CF53-037F-4C59-8C9A-25685A1F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BD51A-55DB-427F-8411-03AED409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84474-7C83-4E8E-A7D3-089C096A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F800A-B282-4225-AA9F-BAF50319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B5E04-108C-4F66-BE11-F136011F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2B222-6E36-40AC-8717-EBEBA061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789CF-E0C3-4A5E-BB0C-8E8B300D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678A4-58E2-43B4-A3EB-CB82B5B6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DB5C-68C2-4736-BBF1-66AD62C3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FAA79-90C7-4A7B-AA63-71C99D6D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F28AF-FB63-43C7-9DF4-FBEB28B7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BD1D2-86B7-4023-8F80-3AC96EC5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05F6D-E436-4405-B1B1-2F07293B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1199D-B994-41B4-A903-AAEC0B3F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BDA7C-3333-4714-B53B-265F08A2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9AB31-D8F4-4504-AF50-C081BE79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6E318-FC52-4B6E-A0A0-AB6F29E7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ABD5E-9E6C-4E56-A26C-A7C158E7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9A8CE-304E-49D1-A471-063662B6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58F1-1717-4763-955A-238A0C04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BE059-BFF3-4F62-BE77-926DE5C4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ED3A7-C368-410B-A26B-B1B37C00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AA9C2-2F38-4C6B-9C08-72737E70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9B9D8-7FDE-44CE-A530-3E85E49A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95C16-6697-4D38-AC00-34AE19A7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5B2C2-0815-46F5-A925-6E5521A9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9CFE3-D47C-4992-A6B0-167A3BC5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234C2-168A-4CDC-98D7-00459755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3A1BB-5460-4E62-B54A-D1FD3293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C2261-8723-4AAF-9EF5-2F7C96ED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5164-A866-4526-9082-8925F1E5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862DE-8C9D-4814-B1B6-33C84CB7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B23CF-5380-41B4-9351-8AFE97CC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6A4A4-7153-42B6-91F6-C6748CCF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5CE28-CEFC-4897-B53C-C5986912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8319E-19D2-45FC-B065-AADDF513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89D0C-BDFD-482E-8C14-467FBF92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5D902-E848-4480-8650-029AFB02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C913D-31F6-48FD-A765-8B47B768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132FD-4C94-4530-8170-43205CBA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7CE22-2D9F-4612-A426-B362504C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184C-E02D-46DF-A579-17F3BB43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F5B1B-7194-424E-87AA-C60E8CE2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2676D-2B1D-40C9-92A9-89E990E2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22EDE-0EEB-41F1-89DE-711A858A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1BF49-57CA-4ECA-9C31-6FD281F8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60A66-5106-424B-BD99-A4DD240C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980A3-4DF1-41B0-A3AD-A2FC6AE7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8D411-3A7B-4235-BB3A-696FE25D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B5686-0BD1-40C2-9679-D4C67AAB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D782F-B0F4-42E3-B6E3-5621211E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E8200-37D8-4A74-B152-94AC40B9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4FFE-F312-4567-813A-AB76A1C5272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9AB9-8FC7-402E-B055-A1889E69D27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9D61-45C6-428A-877D-5B3041C0FB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BA8B-858A-489C-81AF-698C04D5589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B519-8C63-4E29-B652-93E7BA1C7B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5A2B-616F-4B7D-A994-D6F5B29533D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72E2-B70E-4304-8269-B2AC0886BF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5A1F-BA17-4BF6-9ECA-C74BFA9CFED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AA62-0F63-48A0-8567-4FAEF2016B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7502-AF92-49FF-8511-5EAE16C5501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C29B-FF49-4850-A41C-11FF3004AE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96D1-D1FF-43CB-8D9E-A2B2E7D87E4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0C28-4337-415B-BB8D-5F2654D5EAD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EC32-9280-4547-A5E7-0A7ABAA855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DA65-BBA3-4930-BDDD-EFC43FB3F90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E479-08E7-425B-BE45-E0E40E0987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FF44-1DF7-466C-B18B-8F103523975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D109-8D09-4107-A85F-BB2866056A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A4F6-AA4B-4B21-BFBA-36E872BA895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377D-9A72-418E-8405-1692567AD1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3DF6-FBFC-4172-A943-97A4FD7A2F3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8DBA-21F2-450D-BBAE-4BBFBC064A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6FB7-0434-4023-B15C-D0E5B977711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2340-DD0D-4C9E-9B90-8F7AEDE4A4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54FD-6CC8-4EB6-B06C-3A2B001076A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7111-0AE9-46ED-BE56-5243B950A8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4360" y="41497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Impact"/>
              </a:rPr>
              <a:t>黄昏下的码头风景</a:t>
            </a:r>
            <a:r>
              <a:rPr b="1" lang="zh-CN" sz="4000" spc="-1" strike="noStrike">
                <a:solidFill>
                  <a:srgbClr val="ffffff"/>
                </a:solidFill>
                <a:latin typeface="Impact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Impact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684360" y="5373360"/>
            <a:ext cx="777528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9:03:34Z</dcterms:created>
  <dc:creator>zouendong</dc:creator>
  <dc:description/>
  <dc:language>en-US</dc:language>
  <cp:lastModifiedBy>a</cp:lastModifiedBy>
  <dcterms:modified xsi:type="dcterms:W3CDTF">2014-12-21T03:43:42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