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076-6176-4ED3-8CF6-6DCF73B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F4B-397A-4BB8-BFBE-BFEE0DD0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46C-8730-40D3-BA9E-05DC3F57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AF8-6C52-489A-9D75-D02B08E1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3F9-047C-4F9A-BC0A-ED925355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C6A4-12AB-4339-B8F5-93E276E8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50B-47DC-4356-8CAA-0C2CADD1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5632-3C16-4915-8EAE-33FDE02F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D701-2718-473F-B5B9-70E8EDFE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D8B-7C26-467B-8442-0DB8B6A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853D-2D6D-471D-8E87-F421C71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FBD-6160-4C95-A1EC-C6BCA96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1DC-0573-490B-ABDF-A17745E7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5E7-0AE8-406E-A015-DE0FA8E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659-C506-4F54-9B25-E7A3163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41CA-AD9D-4230-BFF4-8512809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590-A4FA-4804-9AB2-481E9F8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483-E629-4073-AD66-642E3725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C53-1028-4F9F-B84A-D2F67704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C89-6539-41D8-A8E8-F453F43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FAA-9FBA-40EA-8B74-216E9A0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E42-72DC-4CD6-88FB-EF2C5EB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8A9-21A6-47DD-A92E-2EF1DCD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91E-FF6F-4580-82D3-F3D8C18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A55-531D-48AE-BCE6-D41D467BF9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61F-44A1-42F4-B0EF-C3E249A4A4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AE3-EC79-4A7A-97FD-25A071FB94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E06-4A8F-4BB1-8D1A-204C218B5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1886040"/>
            <a:ext cx="77979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黄金树叶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B516-45CC-44F7-8D31-B6709183C3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B323-1734-4FDC-83C1-8E504600F8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7:24:00Z</dcterms:created>
  <dc:creator>Owner</dc:creator>
  <dc:description/>
  <dc:language>en-US</dc:language>
  <cp:lastModifiedBy>a</cp:lastModifiedBy>
  <dcterms:modified xsi:type="dcterms:W3CDTF">2014-12-15T17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