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ADF-EFFF-4069-BFE4-E4F84DC2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1A9-03E6-4A9A-A0D0-8E6C5711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5A1-3BC6-4A64-8A8D-4DF1F0E1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2DE-452C-4E28-A83E-217B15A6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4E0D-E331-4A76-95CC-398B714F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4FB7-E0D0-4A1D-AF0C-F6E04776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53F1-0750-4B62-BB6F-FC744B48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16ED-CDA4-40D3-8BB1-362DEE3F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4A6C-A2E4-46E9-A1AA-99B60F1C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2AE3-C8A0-40C7-88EF-9DADBC62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146E-4F00-4E6F-92DA-557C83F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93C-DC91-424A-A45E-C9B1A686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0358-637D-46CF-A017-694D2386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20EA-DE65-4BEC-B147-1FA3CACA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95ED-0782-473D-AD1E-2808104F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03FC-0E22-4FB0-943A-51A8EB6C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D756-7680-4984-AC5C-79CEA81D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25F2-1355-466D-9113-3AF49D0F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DB872-454C-4EEE-9DAF-AFB924A9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53FE-0681-44EE-AF9A-CDB91A5E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CF24-D5FF-45A8-A9C5-0D86AECA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DD68-3D71-4D80-ABD5-8C98ADFA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D45-4889-4B68-AA03-91845818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A462-08CA-42FD-8EF9-5C6BBD06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458C-62EA-4DEF-ABEF-E796CC06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2424-FB46-4CF7-865D-266D1CC5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6C30-9651-42C4-9821-B07AEC35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2CC9-860C-4B81-B718-7E98AADD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8106-F843-4822-9CD2-849513AA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7F97-21E7-4AF9-85E4-588644FB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225F-CB12-45D3-BE7A-27362665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EC18-1E85-4C3E-9048-6556C9C6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7445-6F37-4C67-A345-1B76036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BEB-1222-4427-88F2-F7A88214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F39AA-664E-4144-BBE6-5B9E9D4B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F67CB-BFAB-4109-8831-08F37B42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010A8-810B-4E7D-AA89-491F4268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538A-254A-4045-8461-9D6C0ED9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1A21-CC9A-4095-8492-D5FAF74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2F59-5C9D-4E0C-9271-625DE6F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44EC-1648-43EA-B16E-52E063AE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BDD95-0E80-422F-B5C6-42F17959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B552A-013A-46AD-BD5B-87F3CCD2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06C-6C54-4914-A591-EAAAD612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3C7-C40A-45A5-8B87-996DA1B8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B52-5503-4A14-B8E1-88FD400B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69C-6D3E-4C38-9150-A4AA2D6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36C-9667-409F-B357-1FFB218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/Documents and Settings/Administrator/桌面/光棍节/未标题-21.jpg未标题-21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32AB-7890-445F-8782-3E3BA85D70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未标题-23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21B3-9256-40A3-B231-64B03F5E56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8AF0-0711-4069-832D-373FC88853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未标题-22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43CD-BC6A-4B46-8BF7-FD12FF5A3F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9E58-7B53-47C5-8E35-8E8DA3118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6:25:05Z</dcterms:created>
  <dc:creator>Administrator</dc:creator>
  <dc:description/>
  <cp:keywords/>
  <dc:language>en-US</dc:language>
  <cp:lastModifiedBy>a</cp:lastModifiedBy>
  <dcterms:modified xsi:type="dcterms:W3CDTF">2014-05-27T01:04:4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