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456-D78F-431F-BF00-F09FDF2F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5F3-BF34-4E8E-81BD-9A62836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D76-57A2-452D-9D64-199411C9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4E8-2DDA-4229-A180-53B0CB4E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351-2214-43C4-A1E6-C18DEA6F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DD0-701D-4DE0-AB40-875B26D5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E4C9-D272-4691-A28D-7F8213C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229-41F0-4BB1-AAB8-B753D62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15FC-4FF2-472F-9CB5-4D2799E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77A-6950-4F26-9AC6-93E4512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545-3CEF-416B-BC3C-B376D1A8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B7D3-B2F2-4B16-A824-B23F5D8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6765-D029-46B0-BA2F-B2D005A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A1E6-A738-4839-81B5-D6044892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721A-DB87-438B-B13C-A7915B1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5607-9238-481F-AB54-252A10A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297E-29DE-4125-BF28-59F0C57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28D-2BC9-4EA6-9BA1-EFB236F6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4D9-462F-4447-ADCF-6B20C2D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BB3-BF7E-4516-90AD-6B0A681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970-7265-48DD-B765-A4860B5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5B2-9C9E-48F4-85CB-DDB730A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D38-3658-4248-B622-7FE1F7F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085-B644-47A0-939C-4149534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ar 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19640" y="6270120"/>
            <a:ext cx="111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97200" y="6270120"/>
            <a:ext cx="36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6240" y="62701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556-0D63-4CCD-AE79-4983A3F98331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-88920" y="6453360"/>
            <a:ext cx="8528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Neo Sans"/>
                <a:ea typeface="宋体"/>
              </a:rPr>
              <a:t>m62 visualcommunications is the global leader in presentation effectiveness, from offices in the UK, USA, and Singap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02480" y="6485040"/>
            <a:ext cx="3812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0280" y="777960"/>
            <a:ext cx="2000160" cy="14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7280" y="2673360"/>
            <a:ext cx="2000160" cy="14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7280" y="4568760"/>
            <a:ext cx="2000160" cy="14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>
            <a:hlinkClick r:id="rId10"/>
          </p:cNvPr>
          <p:cNvSpPr/>
          <p:nvPr/>
        </p:nvSpPr>
        <p:spPr>
          <a:xfrm>
            <a:off x="332640" y="229032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Beyond Bullet Poi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9">
            <a:hlinkClick r:id="rId11"/>
          </p:cNvPr>
          <p:cNvSpPr/>
          <p:nvPr/>
        </p:nvSpPr>
        <p:spPr>
          <a:xfrm>
            <a:off x="339840" y="4188960"/>
            <a:ext cx="149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PowerPoint Sli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">
            <a:hlinkClick r:id="rId12"/>
          </p:cNvPr>
          <p:cNvSpPr/>
          <p:nvPr/>
        </p:nvSpPr>
        <p:spPr>
          <a:xfrm>
            <a:off x="325800" y="6084360"/>
            <a:ext cx="170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PowerPoint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1" descr="bg"/>
          <p:cNvPicPr/>
          <p:nvPr/>
        </p:nvPicPr>
        <p:blipFill>
          <a:blip r:embed="rId13"/>
          <a:stretch/>
        </p:blipFill>
        <p:spPr>
          <a:xfrm>
            <a:off x="2521080" y="777960"/>
            <a:ext cx="6362640" cy="5248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8440" y="189000"/>
            <a:ext cx="911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It’s not the </a:t>
            </a:r>
            <a:r>
              <a:rPr b="1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design</a:t>
            </a: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 of your template, it’s what you </a:t>
            </a:r>
            <a:r>
              <a:rPr b="1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do with it</a:t>
            </a: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 that cou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ar 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ar TITLE"/>
          <p:cNvPicPr/>
          <p:nvPr/>
        </p:nvPicPr>
        <p:blipFill>
          <a:blip r:embed="rId3"/>
          <a:srcRect l="0" t="13242" r="0" b="38451"/>
          <a:stretch/>
        </p:blipFill>
        <p:spPr>
          <a:xfrm>
            <a:off x="0" y="90792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3419640" y="6270120"/>
            <a:ext cx="111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4597200" y="6270120"/>
            <a:ext cx="36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8256240" y="62701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CCC-E38D-4A8C-AE0D-05585266266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557360"/>
            <a:ext cx="75931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黑蓝汽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7640" y="2781000"/>
            <a:ext cx="758196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ar TB"/>
          <p:cNvPicPr/>
          <p:nvPr/>
        </p:nvPicPr>
        <p:blipFill>
          <a:blip r:embed="rId1"/>
          <a:srcRect l="0" t="1205" r="0" b="86762"/>
          <a:stretch/>
        </p:blipFill>
        <p:spPr>
          <a:xfrm>
            <a:off x="0" y="8244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44:56Z</dcterms:created>
  <dc:creator>user</dc:creator>
  <dc:description/>
  <dc:language>en-US</dc:language>
  <cp:lastModifiedBy>a</cp:lastModifiedBy>
  <dcterms:modified xsi:type="dcterms:W3CDTF">2014-12-26T02:33:42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