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544-5B32-47A9-9E08-53006FF6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59E-44AE-4872-A8FC-A8FD1DA4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212-3BE1-4B29-9F8C-45BDAFC1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343-B9B8-43E9-852F-6161D12E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3F6-F6AF-4B1C-9B97-759E219A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864-B1A2-467B-A32C-ED76F38B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080-AAEE-4A6E-AA4D-06A4894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A3F-8CC6-4DA2-A17B-7307F7A6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C1D-3DB3-4444-8BB4-DBA91D1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68D-925B-44DE-BBF4-D059AD3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83A-9BD7-45D6-86C8-5C12DDC1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FEA-2F18-4B87-AD5B-384FD7D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245440" y="6597720"/>
            <a:ext cx="863640" cy="247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6659-95FE-4011-9BE7-8B4447F1F6D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华丽商务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</cp:lastModifiedBy>
  <dcterms:modified xsi:type="dcterms:W3CDTF">2014-12-26T05:26:36Z</dcterms:modified>
  <cp:revision>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