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40B-473E-41F3-AFA5-F8962C52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DCC-1A16-4185-BAD3-C4C573CB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412-0E2C-4A66-8655-829E452B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07A-8C89-455D-AD2E-BDC61D00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AB2C-402B-469B-B4A9-831F228A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6DDA-0E63-4226-BA9A-852642A8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5BD7-DD54-44D0-B660-1ECFFFD1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6A11-8D11-4D1A-A697-96FA724D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9C48-9A0A-4650-9B78-8ADF8663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6C73-A6CC-4419-B24A-EC394CEC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73F0-A177-4167-812E-9E97208B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446-C058-44DD-B844-F96A80C9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785A-DCE0-46CF-A8D4-98FF046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8275-BDE2-4FA9-97A4-13A9E82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197D-8645-4074-833D-88BFEDF7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4C00-6E3B-4F3A-89CA-480F51EE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6983-F102-494A-9A14-127C56C7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1E78-0DB9-4F61-A724-3E2442F1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6075D-ABE8-4F5E-BE7B-DE3418F7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9A69-F291-427F-A2CE-819A2B3F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EDC8-C86F-425F-8352-783E5ACD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E6D0-2456-46D5-B764-1ED77253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DD6-1208-4B4C-9452-308B7312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04E6-E094-48A8-8EE5-24575D1D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9ABE-C074-4E6C-8DBF-46D46AC9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574F-8E37-4603-8115-6727B69E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1C81-31A2-4CD2-9C7F-5B9555C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DF37-377F-4246-81A3-4F3503A9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BF3FC-961A-406A-8297-DFB0D8E5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C0FA-B5B9-4921-A385-AFCB0400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9755-7F59-4A4D-8B1B-2D852422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622A-A859-4C0E-B6DD-FB1B63AC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706A5-27D0-4261-8A8F-353E6FA4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F1F-81B5-4355-99E9-5C07CE96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ED75-2129-432A-8662-C4C1CD99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BA7B3-38D5-4C1C-833D-6C407F94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52BA-F0FC-44A2-8869-67C71AE9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CBDF-D649-4B28-B83C-1DAFBD52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1B875-F5A1-44AA-9458-F6E6EF8D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5174-99BE-403C-AC43-F35C5708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EC220-CF7B-4B3E-947E-35F3EFE0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4134-1524-40A5-94F0-BBAE5C79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4A2A-40BB-4981-B397-809F274C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4FD-CCDE-4563-8050-6B0C8599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A46-89D6-4540-9760-ADCDCC39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B42-4EAF-497E-B14C-CF286F12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F90-10AC-434A-B5B1-A4D93935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296-4B97-4E31-81A6-4D25407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51BB-00E3-4D9B-8B88-61053E9C7D2B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8658-386E-4926-9956-6829C219E66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D61A-50C2-428A-9494-418E50748676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DDB6-B22C-4005-9C51-2FAC286D0F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6938-75C6-4A73-A6FC-BA75A35802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Unbenannt-2"/>
          <p:cNvPicPr/>
          <p:nvPr/>
        </p:nvPicPr>
        <p:blipFill>
          <a:blip r:embed="rId1"/>
          <a:stretch/>
        </p:blipFill>
        <p:spPr>
          <a:xfrm>
            <a:off x="2556000" y="2852640"/>
            <a:ext cx="2793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4:50:04Z</dcterms:created>
  <dc:creator/>
  <dc:description/>
  <cp:keywords/>
  <dc:language>en-US</dc:language>
  <cp:lastModifiedBy>a</cp:lastModifiedBy>
  <dcterms:modified xsi:type="dcterms:W3CDTF">2014-05-24T09:27:22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