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584-FE78-40BB-8700-14D10A43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659-6F77-4E61-86B5-6C217904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FBC26-A7F8-43AE-BD98-082435B0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438AE-6495-4E9E-8433-E1050397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816D1-F0AF-4F9A-B2FB-B9E2AB40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01BDA-D28E-40E2-A140-91606E1C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C49CB-7A63-4EA6-AD36-0DFE1F0F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70043-F39D-45F4-A1DA-2E4BFD04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BA63F-7FA9-476F-BCB1-07102A1B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CA9B1-0B2A-4D06-B1B5-AD80F5C0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6B84C-7688-41C4-9DCB-E76BFB46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31250-DD62-4B16-BA13-EA9A3268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4282-DA23-4E9C-9181-75B93C3C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6C19C-6AC1-45C4-9DC6-19DBFC7F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73C08-4E73-4D45-A9F8-C363170B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6AC11-C7B1-496B-A571-730172E5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36050-9BA6-42A4-A370-1B10D7D6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DF0A4-0E63-4152-BA76-AC91DE3A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1178E-8994-4C75-A9D5-0ACB2D66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ADD98-3507-4AC0-980C-2D51A1A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80AE7-212B-4631-8568-066811D1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17A5F-25E9-45B2-B9CD-E115D7DF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A9BF5-DAB8-477A-ACFD-DB575FF2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2E9-6934-48F7-A122-347F20DD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45684-6138-4193-9B14-A54972A8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15225-CD3F-4C54-93D3-DD81BDB9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6F907-761B-41C2-B0C0-3EFD1A1B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98C8A-F2CB-46ED-B17C-1B038E23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8AE06-6C8A-4071-8192-0A6510B7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4116D-1DEE-48DD-8221-A9F84840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A1412-4616-4586-A2DB-A978F691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816F1-A325-4FBC-9F34-8541652B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C582D-F59E-483B-9405-4A9AC37D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92EE7-EA49-4BC1-8D07-4083B340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2DFD-B94E-4E6B-8588-DAD37692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5287F-4298-4AC5-88EB-D20F9B91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D2CFB-8862-46B9-B885-30061E18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62459-0DA3-4606-AAE0-9A079A6B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831F3-2151-42F0-8A85-F6516275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0E721-A96A-4239-810B-2DD09B32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03324-0754-4175-A387-36A669DB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8F38D-17AE-45F4-BA6E-C917583E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AD92B-DBBC-41E5-9EC3-3EB0ED2B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EDCE1-8380-453A-8D6F-ACC30427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09001-BD94-47C4-B004-F8F2021E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7B3D-246C-44A1-8E97-97870578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A8D59-4256-468E-8F65-3985A965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5EADF-A4C5-4FF3-8A24-EBBAA5B8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2A75E-64D5-48A5-8AAC-6BD9596C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33BB8-8E21-4923-BA82-E8CBFB76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AB07B-244F-450A-A05D-13D016E6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3A7C4-B32C-4412-9DE6-248A63AD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7BAF3-894A-4AE4-82DD-EEFA77DB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561522-0432-43F8-99C9-F456FBF8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50A88-0B51-49D1-A87A-6D394E65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71D82F-9DB8-4B8F-8F06-4AB5C60B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D51B-FF4F-4653-91B9-AD7CBF15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0C52F-C025-47A8-9D92-90B908EB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4F42A-DFFB-443F-AFE9-FC6649AD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AF500-9B3E-4868-BE9D-F1EAD9D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734CC-D123-4B30-956E-BBCE6358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E7956-915D-4BFF-8894-7DBE1D32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DAAA2-91B9-4077-B43F-3A69D2FB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AC964-ACF2-4C32-9D7F-C5445B33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DC72-33B4-40CD-AD6A-3D775CBE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E73A-439B-41EC-8B80-A3074315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D7C2-ED1D-4B6F-B9D8-158D17CB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F610-E560-4493-9038-95B237A3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75C-FA19-4641-AD6D-7A157686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AC03-C513-4917-8C59-C4207BA8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C7C4-5D8B-4488-B37A-080B8D5D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BCAA-F84B-4527-8861-D929C2E7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EA30-6246-42E4-9E9C-1DBEB53C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BB45-CDC4-4CA0-9E46-F14DE3B0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90D2E-BE5F-46A5-B876-998E3C65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661A-0766-42DF-9678-EC2682F9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CABA-5324-4CA4-9869-CA29B6A9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E24F-DCBA-4D9D-9F7A-33AFCD1C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482DC-405E-49F0-BF76-A8795CEC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E4B-71F6-4074-9270-FCFF520D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438E-7624-43FA-A314-02D1E6D6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8DEA-425E-42C0-9F3A-DBB0A902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B21C-3E2D-4868-8A98-0330EC26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97D5-45A5-4392-96A0-F2250469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CAEB-0168-4EF3-82C6-760C842F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CD1A-775D-4EF9-8266-08DE9445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B870-0759-4E7A-955A-4CF12D4B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F2DEF-F900-4818-8C15-905AF630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B7449-E659-48F0-8241-7F2B6CDB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4A830-2393-4632-8C1D-FCFEA6B2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D1D-D46F-4167-A851-6C88252E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F8C45-4986-4250-A2A1-414A632E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D12F-24BB-41FC-B29D-216B83E6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E4435-8DD6-4AD8-A98C-0FDE38F9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06145-5E5F-4598-87D6-8FCF4155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DCAAF-ECAB-4CD7-9CA0-F54C093C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80AE-14AC-47DE-A66C-DFA001A9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46E6C-4DCF-493A-9F67-09B34480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885B4-ABD6-4A05-B530-7C636B70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D8F5-5CEF-4F67-ABC5-2D6F4487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1D50E-032A-44BA-8652-A8589754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ED3-EEA5-491E-8BE9-C8312AA4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9CBB-8472-407F-AF71-D021EC8B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3236-F9CF-436C-9F8A-BDA463A4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C2E74-A79B-4CEA-804C-9855F93D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09FD5-5229-46FF-B891-6AFE10D5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E93B8-2742-42EB-91E7-FE3B03B6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807FE-4588-4FAE-96FF-4012949B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0E392-10CF-4981-A69B-749FA199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9E376-CF29-491C-AC6F-D1AA3D66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4F706-6A02-46EE-920C-DDF632C1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D7CC6-09B1-49E3-B61F-F27D61E5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10B-31BE-4576-8449-F6F931A4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56182-EF77-4818-B95B-46075B0D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1B792-B622-4822-AC91-53F2643D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E14BD-BA29-4D60-ABF8-46AF1755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810ED-F5A6-4B8B-AAF4-B20DC3EC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7558F-9E59-435F-BEA4-50979BB3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83D7C-2F98-43C2-811B-736D3754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B1474-F728-4D71-9B7F-5D222AA5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2688B-0F29-471D-907E-B35ECA6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46A7E-3CEE-476A-9C01-F7DD1A1F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6B22D-FAAC-4F79-9235-E7ABC69D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979-480B-42B0-B2AE-7D5D9602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B4D18-A187-41E9-902A-4D0EA7AD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52444-77F2-4FDA-B918-2BA292D7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AEEB3-3A77-4212-9A4D-6B527D8F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5028D-0CC5-4C2C-87FE-91C9A425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9CD8C-7D4C-496D-A418-6F575441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E5005-68E7-4D5F-A225-F21F571A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AEE16-0A0A-4CF5-B4D9-E81AB71D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3CD70-EE68-4B28-B6EC-94B7034D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8F426-7AD3-47E2-9A43-E44FD528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A4182-E089-41C2-A3FC-2F4DFB28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C9A-55BA-4D86-B88C-C88F75B5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23B30-4DFE-4D59-99E9-F6571EA2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D1EBC-5B8B-44B9-8F99-5903CF81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BDE96-BDC4-4DB8-A7CC-58566A0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23778-60C7-4690-B97D-61388618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EE8C6-0DF7-4A58-855D-361158B1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15700-B71C-454B-8B89-0B74C765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45F62-0176-4384-A42A-132656CF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23056-7608-4FCE-B712-2F899D60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1CCCA-A4BB-43AA-BFFE-A6013549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0F048-C366-4196-A25A-EB0A5824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6B5-AC8E-4092-BDAD-D938458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18942-83FF-44B6-9A70-909B4C86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A4FFA-5DA4-4938-887F-4C88DA8C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B189-8203-4650-A269-6FBE2E9E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34FC7-FB75-4FB5-9C1F-EEC45A68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3505B-4B43-442A-88FB-5F4D1532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8F9FB-5C62-4CBA-A73E-C108B055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2DA7B-4AE0-4E8D-B6D7-09F7CBD2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4C150-6CCB-4E8B-ACD3-CD565754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D9982-A0A8-4F00-B983-8A4C8F62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8353A-831C-49CA-89EA-A85E54E0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8CA3-02A9-4017-B7E5-934A44242B5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0487-A21B-458E-8659-1203132709F7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0409-BD4C-4B68-80F9-B8161B4604BE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00E0-6C64-4E40-912B-7EC89B854964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242D-8BF5-49D6-82FC-88B0900D51CA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DE55-76A5-43E6-A739-64889F0316F4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680F-BE24-4509-A712-21704D06A385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E860-E431-4C41-9C53-6BEB83A31B68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AB9E-334C-42BD-8013-FC32337A0D9A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F717-C4FA-4421-A29B-38F092C5878E}" type="datetime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E456-31B2-442B-A768-E44E238B013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1166-1FBB-4CCD-9277-69959DC0C2C1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711D-3837-4FB3-B482-55758B41DA1B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89E8-2BB4-4D61-BEC3-67853879298E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950F-7F32-43D6-9CBA-0436C34F484A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4079-EBB0-499F-AA59-244ACAFA1B5F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D138-6405-42DA-ABAA-F47BC9CBE18D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7BF1-BD02-48F7-8CCE-54F6C0B16ADB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20A2-0C7A-4C43-A9A3-180484F0C462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58A1-A4E6-422B-971B-40D74E883D32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BF0A-598B-4266-B06C-5FFA5A67DF97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B0E5-0DE7-43D9-9AF0-52F56D71B257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0124-8D8F-4E80-BD94-FC73E3F16C6F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3AFC-7084-4932-8CD1-55C8BA8B7F6D}" type="datetime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E532-FC6F-49E1-A3E7-CADA30F39AC4}" type="slidenum"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85896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61e26"/>
                </a:solidFill>
                <a:latin typeface="Calibri"/>
                <a:ea typeface="宋体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147276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61e26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2"/>
          <a:stretch/>
        </p:blipFill>
        <p:spPr>
          <a:xfrm>
            <a:off x="7932600" y="4948200"/>
            <a:ext cx="117648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26560" y="342720"/>
            <a:ext cx="7859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61e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826560" y="1338120"/>
            <a:ext cx="78598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61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61e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560" y="342720"/>
            <a:ext cx="7859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61e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26560" y="1338120"/>
            <a:ext cx="78598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61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61e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342720"/>
            <a:ext cx="7859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61e26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26560" y="1338120"/>
            <a:ext cx="785988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61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61e26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543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18:51:47Z</dcterms:created>
  <dc:creator>Ric6000</dc:creator>
  <dc:description/>
  <cp:keywords/>
  <dc:language>en-US</dc:language>
  <cp:lastModifiedBy>a</cp:lastModifiedBy>
  <dcterms:modified xsi:type="dcterms:W3CDTF">2014-05-24T09:28:18Z</dcterms:modified>
  <cp:revision>2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