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1F28-D394-48CF-B0AB-B9E36D724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B3D1-5803-4E83-B4D8-D9FE2C3AB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EFC4-B852-49AD-861F-A40BDFC88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7F35-44FC-405B-9A6B-2788078D1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F961-CD9B-4A92-8EF0-12B7CE066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E977-0A79-4C20-A094-F341DD915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526F-6C0D-49F2-B00D-3D0EC66C6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4562-7B23-4124-A45E-8D2FC442E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9547-845B-4804-905C-3623C39C0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35DE-0832-44E5-951B-C8B571012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7182-DDF0-42E0-A71E-E5EE15697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E218-9757-46A9-BF9C-853C03D62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1f49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26895-FDDA-4C52-A31A-E5634A957ABF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B6548-D52D-440B-90F9-38DEA28D48F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图片 1" descr="1.jpg"/>
          <p:cNvPicPr/>
          <p:nvPr/>
        </p:nvPicPr>
        <p:blipFill>
          <a:blip r:embed="rId3"/>
          <a:stretch/>
        </p:blipFill>
        <p:spPr>
          <a:xfrm>
            <a:off x="-3348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1f49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28720" y="220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0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0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23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4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4T12:50:00Z</dcterms:created>
  <dc:creator>USER</dc:creator>
  <dc:description/>
  <cp:keywords/>
  <dc:language>en-US</dc:language>
  <cp:lastModifiedBy>a</cp:lastModifiedBy>
  <dcterms:modified xsi:type="dcterms:W3CDTF">2014-05-23T01:07:14Z</dcterms:modified>
  <cp:revision>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2</vt:lpwstr>
  </property>
</Properties>
</file>