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57C-CFBC-483D-965D-9C034521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9E0-8E04-48CC-88DB-7710DC27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37A-8130-4779-9A0A-566B01F4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261-24EB-4634-8FBE-02D2AB54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DA5-4104-4819-A976-D6E3012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8A0-0710-4C68-A615-6E4CC70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1BC-4120-445A-AD84-A8466E3A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EB0-A5BF-46A7-AA4D-E4AFC655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92B7-A29F-4CBF-9C5C-E777A1A6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23A-3658-41B8-8A95-1C1CBA1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7B1-8055-41B7-A7EA-871FF93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0EC-36C5-40CF-B285-E8DC972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ACB-884C-4D96-ABC8-40EFE39E938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5840" y="52560"/>
            <a:ext cx="31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15:12:21Z</dcterms:created>
  <dc:creator>sg</dc:creator>
  <dc:description/>
  <dc:language>en-US</dc:language>
  <cp:lastModifiedBy>a</cp:lastModifiedBy>
  <dcterms:modified xsi:type="dcterms:W3CDTF">2014-12-30T15:17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