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7991-B1F0-4DF6-88EF-72D2936CA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82C6-2B3C-4A7A-B535-A7F0874B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292C-12A2-4205-950E-DD1F31C6A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1872-3B8F-48C0-AD0F-6A8C5F76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93DE-5115-4786-A083-B5A776E13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D4FC-7539-49C7-9359-1405569C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5564-EBD2-45BC-B061-B0C325CB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0D92-D6F3-4917-80BE-E199145D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D8C2-E69A-49B0-BE4C-E43EE708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46F1-C79A-4873-BA59-CC0315DA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76CE5-2ECE-4057-B684-B3464104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A266-5F23-4DCD-B15C-795253B7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1BD0-1074-4556-90FD-8551C491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2500-467D-4BA4-8D55-A29EFAF5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26A2-5895-4C79-99CC-A0D6C574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77CC-FE0F-4421-9604-362B6DF5D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1F43-EC8C-41A0-A4F1-4BB95B1C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B5C2-2166-454A-8196-11281955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EA89-B5C8-4D9D-A676-1795D930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4C67-B132-454E-BE11-F27360EF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08F6-0456-4B3F-8532-0F75AE8B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CA0E-3941-4198-96A4-224D6F71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3F4E-2584-4E0F-9F45-DB9E707C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184D-B8D3-48B3-B8EE-1FE78C9E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428A-1B4A-426D-B0A6-4C9476A4F8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8C54-1B7F-4359-818E-3E7F34410E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简洁白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059280"/>
            <a:ext cx="640080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49400"/>
            <a:ext cx="82072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083960"/>
            <a:ext cx="842472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262080"/>
            <a:ext cx="1388880" cy="274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541440" y="3324240"/>
            <a:ext cx="82818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06:03:18Z</dcterms:created>
  <dc:creator>Administrator</dc:creator>
  <dc:description/>
  <dc:language>en-US</dc:language>
  <cp:lastModifiedBy>a</cp:lastModifiedBy>
  <dcterms:modified xsi:type="dcterms:W3CDTF">2014-12-26T05:18:19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