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8649-D9CA-4380-BCE9-452635D1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8E2-7C5D-4191-897B-9B555FC1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7AFC-615C-435F-9416-48FA91D3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03D-80ED-43A5-B6A7-76E43DB2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514C-CA34-4C83-934C-89DDC339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8FE2-CBA1-4812-A44F-A78BFB44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AB14-8163-4784-90C9-D8CBD7F4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BE67-E5B6-4C4C-A93E-E4F6F92C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DE35-BFEA-46CC-98E7-EF2AE6E8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298C-F308-4E9E-A60D-7ED04DFD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BF9A-1E1A-4C82-B5BE-82E440EF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4C0C-5358-402F-BCFA-FDBBB33E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0FE2-5B05-4B1C-A4B7-5F913F6C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0807-A689-4CE0-9959-D7C9D57D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C31B-6565-43C9-AA27-9F3E87F5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43F7-5EA7-4860-BD58-8236C986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F8A0-D964-47FF-91EF-9194E538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2AD-EE05-4F25-A26F-01B945A9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F76-77A9-4417-8CF3-BF2AA272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EED-B65A-4CC3-9555-523A4BBD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68F-866B-43F2-857C-ADADB008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86C-C848-46FA-9A7C-F8388DB2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BD7-573D-4359-A977-0DEE9409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749-5C54-4F76-BC34-C1761FA8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9EB5-B660-4F27-AD5A-D9118D6A0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0ACC-BAC2-444A-9F95-E04EA3C98D0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5998-CDF3-48D7-933F-384C61C68D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Geetesh Bajaj</dc:creator>
  <dc:description/>
  <cp:keywords/>
  <dc:language>en-US</dc:language>
  <cp:lastModifiedBy>a</cp:lastModifiedBy>
  <dcterms:modified xsi:type="dcterms:W3CDTF">2014-05-23T01:11:35Z</dcterms:modified>
  <cp:revision>46</cp:revision>
  <dc:subject/>
  <dc:title>Welc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