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72250-67B7-4756-9760-846E0229E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9C112-52B5-4FB0-9D62-3B18ECCD0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A7952-8428-42F8-BF0D-2FBB40DB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52E4-BF07-49AA-A978-36124F326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2F73F-0FF3-4F66-BEFE-1D2E60BC47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F6D1E-3313-47D6-ADBE-BF01D38C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78908-1A29-4C19-A894-E6A0FFFCB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7964-8C48-42A1-8079-0A63C528F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EC1C3D-E27E-4DD2-B03F-852D4EA45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80B0FA-DE21-44EF-9130-94FB64B90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BE651-533C-4B69-92AB-6C53CD6B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E2C1-0F4C-4B94-B669-95DE7F7C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35CB3-0ADC-4A04-AFAF-16301C002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2BB84-171C-4D80-AC93-A041D1EC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40285-A519-4E9D-A9F9-EE96B2426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D2C7C-36F5-4918-A28F-538847E344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0030F-DAF6-45E6-AEF9-5DEED29C44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C82FA8-ED03-4A33-BE85-63435CB9F8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4C660-0DD4-40DD-9ADB-DE27409EC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EDD0E0-9296-4180-95E4-BA6B4EE56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8ED555-421B-436C-B48C-3A3A972F8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EEB037-425F-4C4D-8FC4-66E5D785C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ABB3-A075-411D-9A35-F8252C21D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947833-B78E-4D3D-B0BA-8175ACF3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ED186D-E2CA-452A-A47F-61619ED7E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D63E0-480A-461C-A9EB-D4584FA1D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58C818-4DFD-4A69-AB9A-B9804A52D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EA95DF-96CD-4AB3-A65D-680401DF2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7C37B0-041A-4B45-84BC-7580DEE82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827D51-91BD-467A-A011-36AEE1E40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AB44-BF47-4847-858E-96BD68F98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A3F7F-8762-480D-97B0-74BD3B6E1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9C02-A86E-41B7-BF88-AB9EAE16E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0541-042A-424F-A773-0CE908774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214F-5718-43DB-8FC0-C038B92D1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9472-D574-456E-8D70-10D76EEDC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0"/>
          <p:cNvPicPr/>
          <p:nvPr/>
        </p:nvPicPr>
        <p:blipFill>
          <a:blip r:embed="rId2"/>
          <a:stretch/>
        </p:blipFill>
        <p:spPr>
          <a:xfrm>
            <a:off x="-33480" y="-312840"/>
            <a:ext cx="9177480" cy="7342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89EB7-64C2-48B3-87B2-C81702B6355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11"/>
          <p:cNvPicPr/>
          <p:nvPr/>
        </p:nvPicPr>
        <p:blipFill>
          <a:blip r:embed="rId2"/>
          <a:stretch/>
        </p:blipFill>
        <p:spPr>
          <a:xfrm>
            <a:off x="0" y="-469800"/>
            <a:ext cx="9144000" cy="7313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E32D6-9450-4E91-8E5B-B08BB0227E5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5C11C-6679-4248-B110-90871236F1D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75F1-E17A-4E80-84A2-FFF80BDD83C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12720" y="2535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微软雅黑"/>
                <a:ea typeface="微软雅黑"/>
              </a:rPr>
              <a:t>加勒比海盗</a:t>
            </a:r>
            <a:r>
              <a:rPr b="1" lang="zh-CN" sz="3600" spc="-1" strike="noStrike">
                <a:solidFill>
                  <a:srgbClr val="003300"/>
                </a:solidFill>
                <a:latin typeface="微软雅黑"/>
                <a:ea typeface="微软雅黑"/>
              </a:rPr>
              <a:t>4</a:t>
            </a:r>
            <a:r>
              <a:rPr b="1" lang="zh-CN" sz="3600" spc="-1" strike="noStrike">
                <a:solidFill>
                  <a:srgbClr val="003300"/>
                </a:solidFill>
                <a:latin typeface="微软雅黑"/>
                <a:ea typeface="微软雅黑"/>
              </a:rPr>
              <a:t>：惊涛怪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00"/>
                </a:solidFill>
                <a:latin typeface="Arial"/>
              </a:rPr>
              <a:t>Thanks For Your 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3300"/>
              </a:buClr>
              <a:buFont typeface="微软雅黑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3300"/>
                </a:solidFill>
                <a:latin typeface="微软雅黑"/>
                <a:ea typeface="微软雅黑"/>
              </a:rPr>
              <a:t>请输入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23T16:02:10Z</dcterms:created>
  <dc:creator/>
  <dc:description/>
  <cp:keywords/>
  <dc:language>en-US</dc:language>
  <cp:lastModifiedBy>a</cp:lastModifiedBy>
  <dcterms:modified xsi:type="dcterms:W3CDTF">2014-05-22T01:23:46Z</dcterms:modified>
  <cp:revision>1</cp:revision>
  <dc:subject/>
  <dc:title>加勒比海盗4：惊涛怪浪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