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B395-B271-4066-8111-9902CFFD7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9318-FECC-4E14-A7BF-F5E4CED464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74175-B278-408D-87DC-7F61795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93AE4-ECBA-405D-BE94-BCED0A78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D9A55-2419-4C13-8058-34CDC15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7B94C-AEAD-4080-BD6A-ACE3718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3971D-B430-4FDE-A01E-2542209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537E9-922E-4A7E-87E1-1F6D407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64E6F4-9F8A-46BB-BB63-13BD0A8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C6A4B1-BB00-4C25-9A59-25451428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78BD4-D3AD-4922-AFB4-7E2C2A5D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EF6EF-A32D-4537-88D9-324FF453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B9DE-999F-4EBC-A79F-952AF37BD41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676768-BC5C-4479-AC18-64746B6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2DF8B-56F1-41BF-964F-4F892FE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29A4C-28FF-4687-BC3C-C2E41474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89B1D-9D59-4136-9B8E-8E5F7215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64DA9-9413-40E1-8EF1-F21443C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8D646-38D0-4E5D-85FE-2ADBC49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E86B9-6E53-45F1-A50C-B26B821C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0DC3-D768-4570-BE30-010FCBE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BF3A0-CD3D-4B2F-953E-B6BD5C4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FD41F-81E9-4D7A-B07D-DC01FE78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A946-14D7-4C81-B243-9256E4D646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1DBD4-6370-4863-8610-A656F15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F6E57-F182-473D-A734-A0314E33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B8B1F-5D6E-4431-9F10-08E829F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DE5B0-06BC-42E6-89F6-A2EB188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3230-B9F0-4B9F-BDE3-580EE8D2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C18EA-6913-4E7E-9571-8F440485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C603E-0C0B-45B8-8E12-2706BBB4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9051E-D3BB-428B-A805-A085B203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5235E-FDE9-40FF-BF08-0B9E3E2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2F052-6C3D-4522-BEBC-FCFB371C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DA59F-D794-4F34-87E0-DCAB8958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8C346-438C-40CC-9995-E2D5354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AA8C0-C5E6-4FDB-A66A-63AA46BA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08DA6F-CFDD-4ADA-A109-871969A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9EA12-62A3-4C29-98F1-D7B5F9D8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B2BA7C-BF06-400D-B0F6-BA42B3A7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47FCC-CF50-4DDF-BEE2-A0A0C9DA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378974-0290-467E-BAD3-35622ABA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09DED0-185B-4321-8EFA-A1B1976D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48C4A0-333C-491B-A555-F0D4FF0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D1C36D-8B91-433E-A614-3190D13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F31270-23EE-4024-8D04-FB29518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3C87F-9DCA-4E22-A0F1-2A3F9CA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507C68-7BF0-4139-891F-A46DBF9B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6333C3-B3D3-4332-A693-6BB5BDCF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FBEC7-E892-47F5-A3C2-74B368E3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5DCFF-3EDB-4005-9C9C-8804BDCB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FEEE8-2D5A-4737-9579-12351BF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1C57F-30EA-47E2-A0AC-EEACB07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5EBDB-BF37-47C9-8876-F03D2C51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849AA-2EA9-4019-B1E6-1A497B2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FE4AB-90BD-4753-BE5B-A6894E8E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624C2-B08F-4295-A557-A36F8E0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BCE8B-A61E-4C86-984D-A549E87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05C26-76B7-4DA9-B181-E71C1A4B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F4F0E-0DA6-4451-9CBF-B1C036E4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D7379-B332-4AF9-95C1-1E0D5C00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751ABA-900C-4663-A021-A97EE92F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06783F-B779-46F9-B213-2076D2F9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1C2573-2CF3-438E-8CF4-81E99EE7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E1210A-51CD-4494-B91F-37CB3D96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26EA93-A7BA-4D5F-8561-43F889A9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92F3A5-5D1F-49C9-B87B-D49D8BC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07199A-32C4-4EF2-B160-9006CF0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551D94-E0C9-4937-A270-41A11F7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92EC16-50F9-495F-B4D9-B22C982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68A12F-B4AD-4926-A38E-3923E0F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E42D6D-EFF0-4B2C-9111-DDFD0692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B3BDC1-D792-444B-8F38-BFF2565B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5318-E1ED-4865-AFCF-6E81D748E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A96FC-ED52-42C1-98E1-EE5E4DEA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C6DB2-A33F-4753-8F24-4F319C9F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065CF-4751-449E-8BD8-65090672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75ADA-4D80-4A9E-B49E-A80D7ABA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9701-6377-4B05-9D45-E6868CB5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15D8-A14E-4521-81A2-9F01B13FEE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C00C2-728C-4FD9-8B47-64494D6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925E9-A997-4DC9-90F6-BF31B14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05B1F-DE5A-4A6B-A82A-5CB7C87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47039-7E64-487D-9C39-B0E6A74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4345-AB0C-4393-89E2-98762578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1EAF1-6274-430F-8FC0-21F1C69E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5FC4-465C-4FA3-9C78-97056A37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601E0-E240-49BD-B03A-F12E8D8D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C37D7-B47E-4DAE-8CF0-4B31474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A7856-3C97-46FC-A862-A8330DF6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8BE0-BFE0-4E5C-8AD0-093D462F33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23015-91C6-43BB-9A11-E00962C4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DC5000-0680-4E3D-83EB-4DC0497C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ACCA4-5183-4647-A3D8-84D109B4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30925B-10E5-46E7-A9A6-131A67A9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2246F-1E2E-492A-B6E4-7642AE8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FAADC-CC65-4F98-A84C-39425C34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375BE-7B9C-4717-83CE-AA3B87D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02685-2CCA-40E7-8EA9-CCCCF281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0A17F-E1C1-4E7D-95F3-C8C72CD9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F0B8B-8499-4085-9A5C-A82408BB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2050-CBCA-430B-9361-6C6E7009E5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E33C9-F048-4AA8-9960-A0BAE40F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EB868-7D33-4F7D-9D25-DCB6AF7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9D10B-2B27-4423-9EEA-F58C198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ADED2-BD78-4F16-B388-2C3C8632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AF89F-5A8A-43C8-9471-754B4A15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99271-8B39-401B-A7D8-09FB0C7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D9EA0-6746-4AB7-9091-BA071034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41ECD-BC36-40AA-B17C-7F84060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B1B22-A9BA-4839-84BA-732DC303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D5611-2835-4EB3-BC6C-764C350D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3FEC-5F83-42FA-ADE2-D4144F065C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4D7B1B-B580-4844-A0DA-10538924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19856-4034-4AE7-8989-40EE9EA2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EDECA-DEB5-4B43-9FBF-07BC692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CBF45-5196-4882-969D-D48BD214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D13E8-9A38-4CB1-9E95-174912B2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D45643-0248-4616-8B44-E529C81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5EF443-F415-4376-A510-7F5326BC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D3AA2-8877-4F36-AC70-B2F399C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390A89-7A7A-43FD-9D95-0C40B90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EF850-2352-42C3-8C1D-79E5558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11B8-CCC6-4344-B90F-A6AD0A4442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D603F-E11C-4403-8A8A-4EF1F447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387E0-FFD2-4C30-BCE6-7B05D4F5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BBB85-5D2E-4D61-81FF-92605EC7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839DA-DDD2-4507-8516-56D932FC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799153-7925-43CA-AB57-08341B9A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95923A-5CB4-43D1-9E92-0450CBC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3D3EF-9059-437D-9965-B509400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CC82A-21C5-440D-8A7A-EB729B5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A8292-D9C2-44CF-B603-68A4E88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595C5-5969-41C9-A0CC-784C9C8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D901-614C-4BDB-BCCF-BBB87F447E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0BF2D5-04BA-4CB0-999D-CDE3870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B873E-495F-4264-9CCE-A19CA108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A02E22-490D-4C2B-A904-3F19BD15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334334-0199-41C7-A392-67F8D044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1C52FE-50FB-4A65-A51A-FAF1789E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A77B93-401E-4E42-926B-F9954AC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E55D3A-8DE7-4524-82FC-1F5256B6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5704D-8DBC-4BCB-A718-1E76A3E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F8206-7548-4E1A-A25D-75C6D921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13FEA-B364-49CC-820F-2600E11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0EC1-D1D4-4452-BF2B-A5F2FEE7D6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DCD7E-BACF-4735-B725-84DB1FC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F2517-B9F9-4DEF-9254-D9626C06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04EFE-216F-453F-8D34-0C1A075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B6263-0840-4425-8BBD-540CFCA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CEE40C-FD54-406D-ACCD-A5E0C9A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738910-67D2-407B-B845-77BFA1B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2152B1-D215-46F4-91C5-FFE7C798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684094-951C-40D4-9C1D-54AE1EE1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335A5F-C849-4206-A26D-D1B2C7A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D903F-879F-412B-A5CD-1F2AD46F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2" descr="bg2"/>
          <p:cNvPicPr/>
          <p:nvPr/>
        </p:nvPicPr>
        <p:blipFill>
          <a:blip r:embed="rId2"/>
          <a:stretch/>
        </p:blipFill>
        <p:spPr>
          <a:xfrm>
            <a:off x="-14400" y="-22320"/>
            <a:ext cx="917604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23700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CCA717-6E80-4E32-AF8C-B37156064E1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F1C-B102-436E-8BB1-05C7510CC2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CB06-824B-428A-9CEE-FF610B4E29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FB2A-E6FB-4B11-BAC0-4EDDBBEC055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164-C976-4822-B2AA-6873CBD704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DBB7-25AE-4A05-A41C-18E32091F4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E7F-5F3C-49EB-8271-A2D705140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266-7D11-4CFE-805C-A3688B261F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B17-36FB-4FE5-916A-FFAA7CFA46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AC40-847E-47BC-9CA9-54C1930BD0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ED0-927F-4288-B98D-E6DE04FA8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4" descr="bg1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9721-7516-47F3-AC8D-53E2A7501A0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0450-10C9-4624-A688-4914829013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9D4-B1A0-4331-8A5A-85B8D252DD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9F6-AD7C-4A1A-A340-A440B7287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06DB-6E7C-4649-B694-FECFE3386A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F814-C8E7-4853-AC85-33EB851BC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83E-BDF2-487A-8666-471086AD71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C44D-DB09-4317-A788-35EEE4250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032-1026-42CC-B234-FDAC600EFA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D0BF-E56D-4D37-BDAF-730A0864B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D87-AFD4-4BF9-845F-29E9720F4B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15F9-071C-4C26-816C-F3A0BE8B5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ED26-2732-4F48-91AA-320D5A7CEA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820-9D71-4DCE-861B-2FACF261D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66560" y="35492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金钥匙商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WordArt 10"/>
          <p:cNvSpPr txBox="1"/>
          <p:nvPr/>
        </p:nvSpPr>
        <p:spPr>
          <a:xfrm>
            <a:off x="539640" y="2421000"/>
            <a:ext cx="48135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1"/>
          <p:cNvSpPr txBox="1"/>
          <p:nvPr/>
        </p:nvSpPr>
        <p:spPr>
          <a:xfrm>
            <a:off x="-4273920" y="2673360"/>
            <a:ext cx="481356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37254"/>
                      </a:srgbClr>
                    </a:gs>
                  </a:gsLst>
                  <a:lin ang="5400000"/>
                </a:gradFill>
                <a:latin typeface="黑体"/>
              </a:rPr>
              <a:t>单击此处添加标题文字</a:t>
            </a:r>
            <a:endParaRPr b="1" i="1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37254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633564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09188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a</cp:lastModifiedBy>
  <dcterms:modified xsi:type="dcterms:W3CDTF">2014-12-15T17:49:36Z</dcterms:modified>
  <cp:revision>25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