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65D-7DFA-4D4B-A6F3-BC4B3154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F9A-39DA-49CA-98DE-E83421FF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127-2485-4FDD-A6B2-14723803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127-67BF-4A6F-B776-752BC818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C91D-29B9-4734-B91B-16EC715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0FA3-22EA-404B-8457-E7FCF4A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295C-9578-4555-AA7D-EE4EA9A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BA5C-6622-4504-8367-5563C3EC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596D-240C-406F-B9D8-20AFA20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4260-B999-49E6-96BB-5167FE6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96D9-6CD2-40DA-A2A6-854DC5B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AFB-B239-44FF-BA02-18BED72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C1F-45C7-40BE-85E6-F4640315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8E5-C746-4FBF-981C-B97497C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2A01-33F1-417A-BC4F-939E96D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131F-C5BD-4C3E-B6D9-89F1F85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6EE9-FDF3-41D6-8D85-7B379F08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334-D8D7-42C4-B1B8-7920A88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CFE-E541-4D1E-96A3-D7C8FE8D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1F7-2910-4324-A9A8-6F5D587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217-87AB-400A-B9BC-BFCF64A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D9F-072B-4EDD-A6B0-B75B34B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B68-41EC-4687-BAA2-F2824A8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99D-152D-4D37-B590-A1D8195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5E4-D02D-46CF-99AE-253F5689A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7FB-B359-4B74-A8E3-C16905A73A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A70C-2DC3-4A3A-B5FF-59877E585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8042912444646[1]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[1]_副本"/>
          <p:cNvPicPr/>
          <p:nvPr/>
        </p:nvPicPr>
        <p:blipFill>
          <a:blip r:embed="rId1"/>
          <a:stretch/>
        </p:blipFill>
        <p:spPr>
          <a:xfrm>
            <a:off x="-104760" y="-23760"/>
            <a:ext cx="928512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21:17:55Z</dcterms:created>
  <dc:creator>Administrator</dc:creator>
  <dc:description/>
  <cp:keywords/>
  <dc:language>en-US</dc:language>
  <cp:lastModifiedBy>a</cp:lastModifiedBy>
  <dcterms:modified xsi:type="dcterms:W3CDTF">2014-05-22T01:24:0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