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43F-BEC7-4AD8-B9DA-79E62A02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E72-FBF5-44CB-8665-327A05D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EC1-14F5-4538-B27C-CCD4B30D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B27-9D8A-4FE5-8C0F-44624C1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0C4-4D2C-4E38-BA28-8E2248CD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7F22-5604-4D84-9164-6D9EA617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1CE0-E3DD-4118-A569-1E4366E1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678-8C8E-4B9B-AC6B-869E20D9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6684-2E5C-4B96-9348-36BEC62B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9041-F13B-44E4-84E9-0D114A0C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539-C5ED-4C8F-B911-35CCFAB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3F66-FC14-42AA-8752-94486F6B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CC32-8EE0-43A5-BBFE-04AD771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3BF-B472-415B-AD3C-503F359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9561-188B-4600-902B-AE3CDD51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9C81-B2C2-4CFB-9B7A-437B0FBE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66B0-910F-439C-A63B-182D97ED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6845-DB31-4112-A6A7-E0AB7AB1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A0EC-C061-4191-A2D0-BB07C7C0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2875-BA02-44EC-9350-EE477F3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19D2-D02E-4369-99A7-33507BE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5AA-468A-4794-9D64-527923A1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342B-083B-4EEC-BA57-2DCBFE99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FE1E-833F-47A8-A429-BE2151C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817A-EDF8-4AF2-A4D4-0A9127D8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9BDE-7D65-4500-B79A-29E909E0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6D46-3FBF-4343-A8D2-D3731432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B440-934D-4F7E-AA6D-098662E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B612-8C30-4CA3-855C-653BE5F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9083-0F21-40F6-81F9-51DD71C3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1F67-1F9C-42AF-AAFA-0406E5A2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517-5290-4EA3-89CF-4A3F43D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CAC-DEA9-4D2C-AFD7-879D232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8A3-4B3B-443C-B660-937ACF1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2AC-291D-4605-B410-14F81D2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091-EF73-4767-85F0-3C16348F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A23B-B8D1-4EEF-8885-5CA6837DD4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7710-D4D2-4F95-BB19-63690E0B80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9BE7-F32E-4F6A-919D-AEBEC09935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4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116856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6EC-1DFE-41F9-9EF2-AC6AB46F1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约钢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35053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48:25Z</dcterms:created>
  <dc:creator/>
  <dc:description/>
  <dc:language>en-US</dc:language>
  <cp:lastModifiedBy>a</cp:lastModifiedBy>
  <dcterms:modified xsi:type="dcterms:W3CDTF">2014-12-15T17:44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