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4B3-3520-4A67-B219-5FBC040A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858-F101-4049-BBC1-87ECE7B1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B4D-7CCF-4D80-9CC1-258F79C6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F9E-531B-4A53-9F64-C4DCAE31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A63-D5B0-4F12-891B-24A0A422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280-D267-4C70-A91C-7C225F2A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44C-E168-4F3A-9FAD-26BA2047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746-7A21-440C-BE58-2E3C6CF3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3AA-0C2B-42C5-9CE3-EAA4C11B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762-37D6-4A9A-9895-654C3EA4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9F8-8667-4FEC-AE0B-C619581D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FF3-1FFB-4C69-B53B-18558853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020B-3BDD-4830-B5D3-714347D9FF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简约线框粉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4:32:33Z</dcterms:created>
  <dc:creator>Administrator</dc:creator>
  <dc:description/>
  <dc:language>en-US</dc:language>
  <cp:lastModifiedBy>a</cp:lastModifiedBy>
  <dcterms:modified xsi:type="dcterms:W3CDTF">2014-12-31T03:57:0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