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FB5-F054-441B-8625-5091344A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DFD-2CD1-4FFC-AB3F-D4B452DC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F350-5579-458D-9863-C15D7FB1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B3A-84A3-4FF8-843C-7149D305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1A6-2F40-41A9-95D4-168233EF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250-FE54-47B8-8BD6-8E8B314B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0B3-FC49-4F16-9CAF-32C64192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AA36-6C8C-4FAC-88B3-94BCDF59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F17A-9883-4211-AB80-D722372D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53D-A95B-48B4-B4ED-878767E2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531-0BA5-40BA-A9D7-6B04F097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539-D685-4E42-BF6B-1361F169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EA79-4C21-4C87-81B5-E2AB334017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8388360" y="0"/>
            <a:ext cx="755640" cy="1916280"/>
          </a:xfrm>
          <a:prstGeom prst="rect">
            <a:avLst/>
          </a:prstGeom>
          <a:solidFill>
            <a:srgbClr val="00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020000" y="0"/>
            <a:ext cx="755640" cy="415620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704000" y="0"/>
            <a:ext cx="755640" cy="3141720"/>
          </a:xfrm>
          <a:prstGeom prst="rect">
            <a:avLst/>
          </a:prstGeom>
          <a:solidFill>
            <a:srgbClr val="3399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388360" y="1916280"/>
            <a:ext cx="755640" cy="4941720"/>
          </a:xfrm>
          <a:prstGeom prst="rect">
            <a:avLst/>
          </a:prstGeom>
          <a:solidFill>
            <a:srgbClr val="ff00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7704000" y="3141720"/>
            <a:ext cx="755640" cy="3716280"/>
          </a:xfrm>
          <a:prstGeom prst="rect">
            <a:avLst/>
          </a:prstGeom>
          <a:solidFill>
            <a:srgbClr val="00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020000" y="4156200"/>
            <a:ext cx="755640" cy="2701800"/>
          </a:xfrm>
          <a:prstGeom prst="rect">
            <a:avLst/>
          </a:prstGeom>
          <a:solidFill>
            <a:srgbClr val="3399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0" y="1440"/>
            <a:ext cx="7020000" cy="6856560"/>
            <a:chOff x="0" y="1440"/>
            <a:chExt cx="7020000" cy="6856560"/>
          </a:xfrm>
        </p:grpSpPr>
        <p:pic>
          <p:nvPicPr>
            <p:cNvPr id="48" name="Picture 9" descr="C:\Documents and Settings\Administrator\桌面\20120320150307363.jpg20120320150307363"/>
            <p:cNvPicPr/>
            <p:nvPr/>
          </p:nvPicPr>
          <p:blipFill>
            <a:blip r:embed="rId1">
              <a:lum bright="70000" contrast="-70000"/>
            </a:blip>
            <a:srcRect l="8587" t="0" r="12839" b="0"/>
            <a:stretch/>
          </p:blipFill>
          <p:spPr>
            <a:xfrm>
              <a:off x="0" y="1440"/>
              <a:ext cx="7020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0"/>
            <p:cNvSpPr/>
            <p:nvPr/>
          </p:nvSpPr>
          <p:spPr>
            <a:xfrm rot="20940000">
              <a:off x="628200" y="1434600"/>
              <a:ext cx="446004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600" spc="-1" strike="noStrike">
                  <a:solidFill>
                    <a:srgbClr val="ffffcc"/>
                  </a:solidFill>
                  <a:latin typeface="Brush Script Std"/>
                </a:rPr>
                <a:t>Simple</a:t>
              </a:r>
              <a:endParaRPr b="0" lang="en-US" sz="10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 rot="20580000">
              <a:off x="2109600" y="3141360"/>
              <a:ext cx="405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Brush Script Std"/>
                </a:rPr>
                <a:t>Beautiful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691400" y="0"/>
            <a:ext cx="755640" cy="415620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375760" y="0"/>
            <a:ext cx="755640" cy="3141720"/>
          </a:xfrm>
          <a:prstGeom prst="rect">
            <a:avLst/>
          </a:prstGeom>
          <a:solidFill>
            <a:srgbClr val="3399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375760" y="3141720"/>
            <a:ext cx="755640" cy="3716280"/>
          </a:xfrm>
          <a:prstGeom prst="rect">
            <a:avLst/>
          </a:prstGeom>
          <a:solidFill>
            <a:srgbClr val="00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691400" y="4156200"/>
            <a:ext cx="755640" cy="2701800"/>
          </a:xfrm>
          <a:prstGeom prst="rect">
            <a:avLst/>
          </a:prstGeom>
          <a:solidFill>
            <a:srgbClr val="3399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-4680" y="0"/>
            <a:ext cx="747720" cy="1916280"/>
          </a:xfrm>
          <a:prstGeom prst="rect">
            <a:avLst/>
          </a:prstGeom>
          <a:solidFill>
            <a:srgbClr val="00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-4680" y="1916280"/>
            <a:ext cx="747720" cy="494172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673200" y="0"/>
            <a:ext cx="7018200" cy="6856560"/>
            <a:chOff x="673200" y="0"/>
            <a:chExt cx="7018200" cy="6856560"/>
          </a:xfrm>
        </p:grpSpPr>
        <p:pic>
          <p:nvPicPr>
            <p:cNvPr id="58" name="Picture 9" descr="C:\Documents and Settings\Administrator\桌面\20120320150307363.jpg20120320150307363"/>
            <p:cNvPicPr/>
            <p:nvPr/>
          </p:nvPicPr>
          <p:blipFill>
            <a:blip r:embed="rId1">
              <a:lum bright="70000" contrast="-70000"/>
            </a:blip>
            <a:srcRect l="8587" t="0" r="12839" b="0"/>
            <a:stretch/>
          </p:blipFill>
          <p:spPr>
            <a:xfrm>
              <a:off x="673200" y="0"/>
              <a:ext cx="70182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10"/>
            <p:cNvSpPr/>
            <p:nvPr/>
          </p:nvSpPr>
          <p:spPr>
            <a:xfrm rot="20940000">
              <a:off x="1189080" y="1434600"/>
              <a:ext cx="446004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600" spc="-1" strike="noStrike">
                  <a:solidFill>
                    <a:srgbClr val="ffffcc"/>
                  </a:solidFill>
                  <a:latin typeface="Brush Script Std"/>
                </a:rPr>
                <a:t>Simple</a:t>
              </a:r>
              <a:endParaRPr b="0" lang="en-US" sz="10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1"/>
            <p:cNvSpPr/>
            <p:nvPr/>
          </p:nvSpPr>
          <p:spPr>
            <a:xfrm rot="20580000">
              <a:off x="2669400" y="3141000"/>
              <a:ext cx="405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Brush Script Std"/>
                </a:rPr>
                <a:t>Beautiful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539640" y="1411200"/>
            <a:ext cx="2303640" cy="1079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简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059280" y="1427040"/>
            <a:ext cx="3600360" cy="107964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简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39640" y="2709720"/>
            <a:ext cx="1584360" cy="1079640"/>
          </a:xfrm>
          <a:prstGeom prst="rect">
            <a:avLst/>
          </a:prstGeom>
          <a:solidFill>
            <a:srgbClr val="5f5f5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简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885000" y="1427040"/>
            <a:ext cx="1719360" cy="1079640"/>
          </a:xfrm>
          <a:prstGeom prst="rect">
            <a:avLst/>
          </a:prstGeom>
          <a:solidFill>
            <a:srgbClr val="ff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简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379760" y="2709720"/>
            <a:ext cx="1719360" cy="1079640"/>
          </a:xfrm>
          <a:prstGeom prst="rect">
            <a:avLst/>
          </a:prstGeom>
          <a:solidFill>
            <a:srgbClr val="80008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简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315120" y="2709720"/>
            <a:ext cx="2289240" cy="107964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简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39640" y="4005360"/>
            <a:ext cx="1944720" cy="1079280"/>
          </a:xfrm>
          <a:prstGeom prst="rect">
            <a:avLst/>
          </a:prstGeom>
          <a:solidFill>
            <a:srgbClr val="8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简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2716200" y="4005360"/>
            <a:ext cx="2503440" cy="1079280"/>
          </a:xfrm>
          <a:prstGeom prst="rect">
            <a:avLst/>
          </a:prstGeom>
          <a:solidFill>
            <a:srgbClr val="0033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简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5435640" y="4005360"/>
            <a:ext cx="3168720" cy="10792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言简意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2325600" y="2709720"/>
            <a:ext cx="1830600" cy="1079640"/>
          </a:xfrm>
          <a:prstGeom prst="rect">
            <a:avLst/>
          </a:prstGeom>
          <a:solidFill>
            <a:srgbClr val="3333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简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917640" y="727200"/>
            <a:ext cx="346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什么是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微软雅黑"/>
              </a:rPr>
              <a:t>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833560" y="2479680"/>
            <a:ext cx="38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Bookman Old Style"/>
              </a:rPr>
              <a:t>Mayb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4097160" y="2425680"/>
            <a:ext cx="211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Bookman Old Style"/>
              </a:rPr>
              <a:t>i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 flipH="1">
            <a:off x="2483640" y="3209760"/>
            <a:ext cx="38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□ □ □ □ □ 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800"/>
                            </p:stCondLst>
                            <p:childTnLst>
                              <p:par>
                                <p:cTn id="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10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8385120" y="0"/>
            <a:ext cx="755640" cy="415620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68160" y="0"/>
            <a:ext cx="756000" cy="3141720"/>
          </a:xfrm>
          <a:prstGeom prst="rect">
            <a:avLst/>
          </a:prstGeom>
          <a:solidFill>
            <a:srgbClr val="3399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68160" y="3141720"/>
            <a:ext cx="756000" cy="3716280"/>
          </a:xfrm>
          <a:prstGeom prst="rect">
            <a:avLst/>
          </a:prstGeom>
          <a:solidFill>
            <a:srgbClr val="00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8385120" y="4156200"/>
            <a:ext cx="755640" cy="2701800"/>
          </a:xfrm>
          <a:prstGeom prst="rect">
            <a:avLst/>
          </a:prstGeom>
          <a:solidFill>
            <a:srgbClr val="3399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-4680" y="0"/>
            <a:ext cx="747720" cy="1916280"/>
          </a:xfrm>
          <a:prstGeom prst="rect">
            <a:avLst/>
          </a:prstGeom>
          <a:solidFill>
            <a:srgbClr val="00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-4680" y="1916280"/>
            <a:ext cx="747720" cy="494172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1346040" y="1440"/>
            <a:ext cx="7039080" cy="6856560"/>
            <a:chOff x="1346040" y="1440"/>
            <a:chExt cx="7039080" cy="6856560"/>
          </a:xfrm>
        </p:grpSpPr>
        <p:pic>
          <p:nvPicPr>
            <p:cNvPr id="82" name="Picture 9" descr="C:\Documents and Settings\Administrator\桌面\20120320150307363.jpg20120320150307363"/>
            <p:cNvPicPr/>
            <p:nvPr/>
          </p:nvPicPr>
          <p:blipFill>
            <a:blip r:embed="rId1">
              <a:lum bright="70000" contrast="-70000"/>
            </a:blip>
            <a:srcRect l="8587" t="0" r="12839" b="0"/>
            <a:stretch/>
          </p:blipFill>
          <p:spPr>
            <a:xfrm>
              <a:off x="1365120" y="1440"/>
              <a:ext cx="7020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0"/>
            <p:cNvSpPr/>
            <p:nvPr/>
          </p:nvSpPr>
          <p:spPr>
            <a:xfrm rot="20940000">
              <a:off x="1468080" y="1434600"/>
              <a:ext cx="446004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600" spc="-1" strike="noStrike">
                  <a:solidFill>
                    <a:srgbClr val="ffffcc"/>
                  </a:solidFill>
                  <a:latin typeface="Brush Script Std"/>
                </a:rPr>
                <a:t>Simple</a:t>
              </a:r>
              <a:endParaRPr b="0" lang="en-US" sz="10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1"/>
            <p:cNvSpPr/>
            <p:nvPr/>
          </p:nvSpPr>
          <p:spPr>
            <a:xfrm rot="20580000">
              <a:off x="2949480" y="3141360"/>
              <a:ext cx="405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Brush Script Std"/>
                </a:rPr>
                <a:t>Beautiful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539640" y="1411200"/>
            <a:ext cx="2303640" cy="107964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美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059280" y="1427040"/>
            <a:ext cx="3600360" cy="107964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美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39640" y="2709720"/>
            <a:ext cx="1584360" cy="1079640"/>
          </a:xfrm>
          <a:prstGeom prst="rect">
            <a:avLst/>
          </a:prstGeom>
          <a:solidFill>
            <a:srgbClr val="5f5f5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美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885000" y="1427040"/>
            <a:ext cx="1719360" cy="1079640"/>
          </a:xfrm>
          <a:prstGeom prst="rect">
            <a:avLst/>
          </a:pr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379760" y="2709720"/>
            <a:ext cx="1719360" cy="1079640"/>
          </a:xfrm>
          <a:prstGeom prst="rect">
            <a:avLst/>
          </a:prstGeom>
          <a:solidFill>
            <a:srgbClr val="ff66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优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315120" y="2709720"/>
            <a:ext cx="2289240" cy="107964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善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39640" y="4005360"/>
            <a:ext cx="1944720" cy="1079280"/>
          </a:xfrm>
          <a:prstGeom prst="rect">
            <a:avLst/>
          </a:prstGeom>
          <a:solidFill>
            <a:srgbClr val="8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秀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2716200" y="4005360"/>
            <a:ext cx="2503440" cy="1079280"/>
          </a:xfrm>
          <a:prstGeom prst="rect">
            <a:avLst/>
          </a:prstGeom>
          <a:solidFill>
            <a:srgbClr val="0033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唯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5435640" y="4005360"/>
            <a:ext cx="3168720" cy="10792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2325600" y="2709720"/>
            <a:ext cx="1830600" cy="107964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917640" y="727200"/>
            <a:ext cx="346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什么是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微软雅黑"/>
              </a:rPr>
              <a:t>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762280" y="2479680"/>
            <a:ext cx="382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Bookman Old Style"/>
                <a:ea typeface="微软雅黑"/>
              </a:rPr>
              <a:t>也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3564000" y="2479680"/>
            <a:ext cx="211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Bookman Old Style"/>
                <a:ea typeface="微软雅黑"/>
              </a:rPr>
              <a:t>就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 flipH="1">
            <a:off x="2483640" y="3209760"/>
            <a:ext cx="38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□ □ □ □ □ 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8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349280" y="0"/>
            <a:ext cx="755640" cy="415620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68160" y="0"/>
            <a:ext cx="756000" cy="3141720"/>
          </a:xfrm>
          <a:prstGeom prst="rect">
            <a:avLst/>
          </a:prstGeom>
          <a:solidFill>
            <a:srgbClr val="3399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68160" y="3141720"/>
            <a:ext cx="756000" cy="3716280"/>
          </a:xfrm>
          <a:prstGeom prst="rect">
            <a:avLst/>
          </a:prstGeom>
          <a:solidFill>
            <a:srgbClr val="00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349280" y="4156200"/>
            <a:ext cx="755640" cy="2701800"/>
          </a:xfrm>
          <a:prstGeom prst="rect">
            <a:avLst/>
          </a:prstGeom>
          <a:solidFill>
            <a:srgbClr val="3399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-4680" y="0"/>
            <a:ext cx="747720" cy="1916280"/>
          </a:xfrm>
          <a:prstGeom prst="rect">
            <a:avLst/>
          </a:prstGeom>
          <a:solidFill>
            <a:srgbClr val="00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-4680" y="1916280"/>
            <a:ext cx="747720" cy="494172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2117880" y="1440"/>
            <a:ext cx="7019640" cy="6856560"/>
            <a:chOff x="2117880" y="1440"/>
            <a:chExt cx="7019640" cy="6856560"/>
          </a:xfrm>
        </p:grpSpPr>
        <p:pic>
          <p:nvPicPr>
            <p:cNvPr id="106" name="Picture 9" descr="C:\Documents and Settings\Administrator\桌面\20120320150307363.jpg20120320150307363"/>
            <p:cNvPicPr/>
            <p:nvPr/>
          </p:nvPicPr>
          <p:blipFill>
            <a:blip r:embed="rId1">
              <a:lum bright="70000" contrast="-70000"/>
            </a:blip>
            <a:srcRect l="8587" t="0" r="12839" b="0"/>
            <a:stretch/>
          </p:blipFill>
          <p:spPr>
            <a:xfrm>
              <a:off x="2117880" y="1440"/>
              <a:ext cx="701964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0"/>
            <p:cNvSpPr/>
            <p:nvPr/>
          </p:nvSpPr>
          <p:spPr>
            <a:xfrm rot="20940000">
              <a:off x="2526480" y="1434600"/>
              <a:ext cx="446004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600" spc="-1" strike="noStrike">
                  <a:solidFill>
                    <a:srgbClr val="ffffcc"/>
                  </a:solidFill>
                  <a:latin typeface="Brush Script Std"/>
                </a:rPr>
                <a:t>Simple</a:t>
              </a:r>
              <a:endParaRPr b="0" lang="en-US" sz="10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 rot="20580000">
              <a:off x="4007880" y="3141360"/>
              <a:ext cx="405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Brush Script Std"/>
                </a:rPr>
                <a:t>Beautiful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25520" y="1411200"/>
            <a:ext cx="3600360" cy="1079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简约≠简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5520" y="2779560"/>
            <a:ext cx="3600360" cy="107964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简约即时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5520" y="4156200"/>
            <a:ext cx="3600360" cy="107928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&amp;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92000" y="1530360"/>
            <a:ext cx="274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简约不等于简单，它是经过深思熟虑后创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得出的设计和思路的延展，不是简单的“堆砌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和平淡的“摆放”，它不是粗浅的“直白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370480" y="2805120"/>
            <a:ext cx="261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简单的东西，没有加入太多累赘的元素，相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更注重生活品味、注重健康时尚、注重合理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约科学。简单是现代的一种时尚观，前卫却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受拘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357880" y="4290840"/>
            <a:ext cx="261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&amp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美有一个共通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强调功能性设计，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条简约流畅，色彩对比强烈，很容易就吸引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众的眼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303280" y="1989000"/>
            <a:ext cx="454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方正行楷简体"/>
              </a:rPr>
              <a:t>       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方正行楷简体"/>
              </a:rPr>
              <a:t>美的东西从来都无需太多华丽的陪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方正行楷简体"/>
              </a:rPr>
              <a:t>只要简简单单，就足够美丽。美，或许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方正行楷简体"/>
              </a:rPr>
              <a:t>在平常处，最简单的也许就是最美的。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方正行楷简体"/>
              </a:rPr>
              <a:t>惜您身边每一位简单的人，每一处简单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方正行楷简体"/>
              </a:rPr>
              <a:t>风景，将每一个平平淡淡的日子过得细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方正行楷简体"/>
              </a:rPr>
              <a:t>长流。幸福，其实就这么简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44280">
            <a:solidFill>
              <a:srgbClr val="3399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886840" y="2276640"/>
            <a:ext cx="15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cc00"/>
                </a:solidFill>
                <a:latin typeface="Arial"/>
                <a:ea typeface="微软雅黑"/>
              </a:rPr>
              <a:t>谢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7200" spc="-1" strike="noStrike">
                <a:solidFill>
                  <a:srgbClr val="660066"/>
                </a:solidFill>
                <a:latin typeface="Arial"/>
                <a:ea typeface="微软雅黑"/>
              </a:rPr>
              <a:t>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59480" y="0"/>
            <a:ext cx="593640" cy="6858000"/>
          </a:xfrm>
          <a:prstGeom prst="rect">
            <a:avLst/>
          </a:prstGeom>
          <a:solidFill>
            <a:srgbClr val="00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420520" y="3182760"/>
            <a:ext cx="15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Arial"/>
                <a:ea typeface="微软雅黑"/>
              </a:rPr>
              <a:t>观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7200" spc="-1" strike="noStrike">
                <a:solidFill>
                  <a:srgbClr val="ff6699"/>
                </a:solidFill>
                <a:latin typeface="Arial"/>
                <a:ea typeface="微软雅黑"/>
              </a:rPr>
              <a:t>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659480" y="4587840"/>
            <a:ext cx="2652480" cy="13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600280" y="1844640"/>
            <a:ext cx="2652840" cy="13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04:31:06Z</dcterms:created>
  <dc:creator>Administrator</dc:creator>
  <dc:description/>
  <dc:language>en-US</dc:language>
  <cp:lastModifiedBy>a</cp:lastModifiedBy>
  <dcterms:modified xsi:type="dcterms:W3CDTF">2014-12-31T03:56:06Z</dcterms:modified>
  <cp:revision>48</cp:revision>
  <dc:subject/>
  <dc:title>简·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