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A535-9F73-445B-89EF-410E6EC90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093F-2691-4B1A-AB1F-A648840E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9924-EC3F-49B9-AE48-0CA71E499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4550-1A43-4A0A-81D9-FC93CC3C0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823B-F82E-4767-B243-E8062BB9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4F3A-173D-4DA0-AFCE-A2FE978D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3024-AA3A-4890-B0E6-14CE53D0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3089-315B-43B9-B11E-62A65064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C036-521F-4933-AC8F-9279FE2B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CBB1-1439-437E-82D1-5AFD565C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6BC8-F9DF-422F-B436-C1BA1689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30F1-5800-4D55-9DF0-B8CDEC3C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D748-D95F-4612-98D0-C8A15C65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A827-0DF4-44A0-AEE3-DE48E718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42B7-0521-452C-AF67-31D6A39E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96810-570B-4390-A4E6-351A8874A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0673-4B80-4E19-A81E-6BFBD7501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E952-542A-4F2E-BAF6-5AB0CD7D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BA8F-1C2B-47FF-A5D1-6D23BB3E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A854-28DF-4B0C-A178-428BD4BA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B6A6-5E48-4513-B881-825C0D23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FCB4-7475-425A-AFD7-1E58C773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693C-CF5C-426E-8261-5CE16A30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8C0A-8D18-4EF2-B67F-1A93699A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角三角形 7"/>
          <p:cNvSpPr/>
          <p:nvPr/>
        </p:nvSpPr>
        <p:spPr>
          <a:xfrm flipH="1">
            <a:off x="-720" y="0"/>
            <a:ext cx="1539720" cy="7714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915840"/>
            <a:ext cx="82296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ea02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ea022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ea022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ea022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ea022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5B97-2743-4514-A171-C10EBA074DC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7605-7F02-475B-AD62-C2D63AADE3D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直接连接符 6"/>
          <p:cNvSpPr/>
          <p:nvPr/>
        </p:nvSpPr>
        <p:spPr>
          <a:xfrm flipH="1">
            <a:off x="0" y="0"/>
            <a:ext cx="1541520" cy="771480"/>
          </a:xfrm>
          <a:prstGeom prst="line">
            <a:avLst/>
          </a:prstGeom>
          <a:ln w="19080">
            <a:solidFill>
              <a:srgbClr val="fea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6624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789D-C2FE-421A-8D32-C450440D0721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B000-88CB-4229-A0F5-BFF57DDEF0DF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rcRect l="0" t="0" r="0" b="15796"/>
          <a:stretch/>
        </p:blipFill>
        <p:spPr>
          <a:xfrm>
            <a:off x="297000" y="339840"/>
            <a:ext cx="4727520" cy="273672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3"/>
          <p:cNvGrpSpPr/>
          <p:nvPr/>
        </p:nvGrpSpPr>
        <p:grpSpPr>
          <a:xfrm>
            <a:off x="0" y="0"/>
            <a:ext cx="9144000" cy="4660200"/>
            <a:chOff x="0" y="0"/>
            <a:chExt cx="9144000" cy="4660200"/>
          </a:xfrm>
        </p:grpSpPr>
        <p:sp>
          <p:nvSpPr>
            <p:cNvPr id="86" name="直接连接符 10"/>
            <p:cNvSpPr/>
            <p:nvPr/>
          </p:nvSpPr>
          <p:spPr>
            <a:xfrm flipH="1">
              <a:off x="0" y="0"/>
              <a:ext cx="9144000" cy="4660200"/>
            </a:xfrm>
            <a:prstGeom prst="line">
              <a:avLst/>
            </a:prstGeom>
            <a:ln w="19080">
              <a:solidFill>
                <a:srgbClr val="fea0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38240" y="367524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工程项目规划</a:t>
            </a: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71280" y="3508200"/>
            <a:ext cx="7777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告别单身情人节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模板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624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Impact"/>
              </a:rPr>
              <a:t>此处添加标题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915840"/>
            <a:ext cx="82296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ea02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请输入文字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矩形 3"/>
          <p:cNvSpPr/>
          <p:nvPr/>
        </p:nvSpPr>
        <p:spPr>
          <a:xfrm>
            <a:off x="-17640" y="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efe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rcRect l="21247" t="0" r="48365" b="0"/>
          <a:stretch/>
        </p:blipFill>
        <p:spPr>
          <a:xfrm>
            <a:off x="0" y="0"/>
            <a:ext cx="1074600" cy="5143680"/>
          </a:xfrm>
          <a:prstGeom prst="rect">
            <a:avLst/>
          </a:prstGeom>
          <a:ln w="0">
            <a:noFill/>
          </a:ln>
        </p:spPr>
      </p:pic>
      <p:sp>
        <p:nvSpPr>
          <p:cNvPr id="93" name="矩形 7"/>
          <p:cNvSpPr/>
          <p:nvPr/>
        </p:nvSpPr>
        <p:spPr>
          <a:xfrm>
            <a:off x="0" y="0"/>
            <a:ext cx="1019160" cy="5143680"/>
          </a:xfrm>
          <a:prstGeom prst="rect">
            <a:avLst/>
          </a:prstGeom>
          <a:gradFill rotWithShape="0">
            <a:gsLst>
              <a:gs pos="0">
                <a:srgbClr val="ecf7de"/>
              </a:gs>
              <a:gs pos="100000">
                <a:srgbClr val="fea0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9"/>
          <p:cNvSpPr/>
          <p:nvPr/>
        </p:nvSpPr>
        <p:spPr>
          <a:xfrm>
            <a:off x="1062000" y="0"/>
            <a:ext cx="0" cy="5143680"/>
          </a:xfrm>
          <a:prstGeom prst="line">
            <a:avLst/>
          </a:prstGeom>
          <a:ln w="28440">
            <a:solidFill>
              <a:srgbClr val="fea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角三角形 27"/>
          <p:cNvSpPr/>
          <p:nvPr/>
        </p:nvSpPr>
        <p:spPr>
          <a:xfrm flipH="1">
            <a:off x="7603560" y="4371840"/>
            <a:ext cx="1539720" cy="7718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2"/>
          <a:srcRect l="0" t="0" r="0" b="10468"/>
          <a:stretch/>
        </p:blipFill>
        <p:spPr>
          <a:xfrm>
            <a:off x="7437600" y="4351320"/>
            <a:ext cx="1706400" cy="7923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7280" y="66240"/>
            <a:ext cx="749952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Impact"/>
              </a:rPr>
              <a:t>此处添加标题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87280" y="915480"/>
            <a:ext cx="749952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ea02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ea02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ea02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ea02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ea02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3"/>
          <a:stretch/>
        </p:blipFill>
        <p:spPr>
          <a:xfrm>
            <a:off x="4587840" y="555480"/>
            <a:ext cx="3652920" cy="2511720"/>
          </a:xfrm>
          <a:prstGeom prst="rect">
            <a:avLst/>
          </a:prstGeom>
          <a:ln cap="sq" w="101520">
            <a:solidFill>
              <a:srgbClr val="fdfdfd"/>
            </a:solidFill>
            <a:miter/>
          </a:ln>
        </p:spPr>
      </p:pic>
      <p:sp>
        <p:nvSpPr>
          <p:cNvPr id="100" name="矩形 6"/>
          <p:cNvSpPr/>
          <p:nvPr/>
        </p:nvSpPr>
        <p:spPr>
          <a:xfrm>
            <a:off x="8600040" y="450684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efe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rcRect l="28516" t="47792" r="21261" b="15789"/>
          <a:stretch/>
        </p:blipFill>
        <p:spPr>
          <a:xfrm>
            <a:off x="0" y="0"/>
            <a:ext cx="1539720" cy="771480"/>
          </a:xfrm>
          <a:prstGeom prst="rect">
            <a:avLst/>
          </a:prstGeom>
          <a:ln w="0">
            <a:noFill/>
          </a:ln>
        </p:spPr>
      </p:pic>
      <p:sp>
        <p:nvSpPr>
          <p:cNvPr id="102" name="直角三角形 6"/>
          <p:cNvSpPr/>
          <p:nvPr/>
        </p:nvSpPr>
        <p:spPr>
          <a:xfrm flipH="1">
            <a:off x="-720" y="0"/>
            <a:ext cx="1539720" cy="7714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7"/>
          <p:cNvSpPr/>
          <p:nvPr/>
        </p:nvSpPr>
        <p:spPr>
          <a:xfrm flipH="1">
            <a:off x="0" y="0"/>
            <a:ext cx="1541520" cy="771480"/>
          </a:xfrm>
          <a:prstGeom prst="line">
            <a:avLst/>
          </a:prstGeom>
          <a:ln w="19080">
            <a:solidFill>
              <a:srgbClr val="fea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6624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Impact"/>
              </a:rPr>
              <a:t>此处添加标题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360" y="1060200"/>
            <a:ext cx="76327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ea02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建筑工程领域中，安全责任重于泰山。每一位工作人员，不论从事的是直接的建造工作，还是设计、监理等工作，只要进入工地，都应该佩戴安全帽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矩形 5"/>
          <p:cNvSpPr/>
          <p:nvPr/>
        </p:nvSpPr>
        <p:spPr>
          <a:xfrm>
            <a:off x="8600040" y="450684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efe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直角三角形 8"/>
          <p:cNvSpPr/>
          <p:nvPr/>
        </p:nvSpPr>
        <p:spPr>
          <a:xfrm flipH="1">
            <a:off x="7603560" y="4371840"/>
            <a:ext cx="1539720" cy="7718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rcRect l="0" t="0" r="0" b="10468"/>
          <a:stretch/>
        </p:blipFill>
        <p:spPr>
          <a:xfrm>
            <a:off x="7437600" y="4351320"/>
            <a:ext cx="1706400" cy="792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624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Impact"/>
              </a:rPr>
              <a:t>此处添加标题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1060560"/>
            <a:ext cx="820728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ea02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ea02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ea02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ea02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矩形 5"/>
          <p:cNvSpPr/>
          <p:nvPr/>
        </p:nvSpPr>
        <p:spPr>
          <a:xfrm>
            <a:off x="8600040" y="450684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efe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8640" y="1023480"/>
            <a:ext cx="843768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4"/>
          <p:cNvSpPr/>
          <p:nvPr/>
        </p:nvSpPr>
        <p:spPr>
          <a:xfrm>
            <a:off x="541440" y="3166920"/>
            <a:ext cx="828180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3T04:23:00Z</dcterms:created>
  <dc:creator>lenovo</dc:creator>
  <dc:description/>
  <dc:language>en-US</dc:language>
  <cp:lastModifiedBy>a</cp:lastModifiedBy>
  <dcterms:modified xsi:type="dcterms:W3CDTF">2014-12-21T05:46:36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