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8A0-B547-48BD-922C-32EE5730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110-A2E7-4195-81B7-BFA70249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7D3-F64D-4804-87D1-C8E432D0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090-836B-45F1-81C4-18E090D6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514-2762-4EFD-B6A2-204EAF8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360-B5D5-4944-BD7D-A9D3E54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F25-89BD-4F5E-A6BC-2C6A2C3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F8A-5D8E-4356-AE21-D8A3B553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5EA-2968-49E0-9187-1A2AEFB4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564-9DDD-42E6-9484-3AB720E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8D4-7534-445B-9ECA-BDAFC59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6FE-255D-4E13-B8CC-FFF3A95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3880-8DAC-4AB0-891F-0FA807E94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371600" y="6597720"/>
            <a:ext cx="77738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4535640" cy="146988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雷锋精神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民提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于老一代革命家的积极倡导，学习雷锋的活动很快从军队向全国各行各业发展，迅速兴起了一个全国范围的学雷锋热潮。共青团中央、全国总工会和全国妇联相继做出决定，并以各种形式组织了学习和宣传雷锋的活动。《人民日报》、《解放军报》等报纸都用大量篇幅报道了各地开展学雷锋活动的情况，以及雷锋事迹、雷锋日记等……随着学雷锋活动的深入开展，全国各行各业和各条战线上，涌现出成千上万雷锋式的先进人物，社会上迅速地出现了一种奋发图强、积极向上的精神，进一步地形成了一种良好的社会新风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精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外史家关注的，也是学雷锋的政治含义。有关著作提到的关联事件，还有庐山会议后“林彪地位的上升”、“社会主义教育运动”、批“合二而一”等等。迈斯纳指出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初，解放军“首次出现在中国政治舞台上。军队的作用，最初基本上只限于宣传方式。第一个被作为标准的毛泽东主义道德典范，并具有高尚的生活情趣而被大力宣扬的军人英雄，是具有传奇色彩的雷锋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精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无论如何，雷锋本人在世之时，毕竟算不上政治人物。其实，在绝大多数国人心目中，学雷锋始终是一项提倡助人为乐的公益活动。不论其缘起如何，经过四十年磨砺，如今已被简化为“再单纯不过的符号”——可以“极凝练地概括为三个字：‘做好事！’。这显然比用“政治挂帅”或“无私奉献”概括“雷锋精神”，来得更贴切、更平实、更少非议。至于近年仍有人愿意探讨“雷锋精神”是属于“共产主义精神”、“时代精神”还是“民族精神”；“雷锋精神”与今日市场经济、消费社会，是“对立”的、“互补”的，还是有可能“化合”的……就让他们继续探讨下去好了。 　　过去大半个世纪里，以平凡而伟大见诸各类官方出版物的英模人物，不胜枚举：张思德、孟泰、时传祥、朱伯儒、李素丽、孔繁森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46:10Z</dcterms:created>
  <dc:creator>Administrator</dc:creator>
  <dc:description/>
  <dc:language>en-US</dc:language>
  <cp:lastModifiedBy>a</cp:lastModifiedBy>
  <dcterms:modified xsi:type="dcterms:W3CDTF">2014-12-26T05:12:59Z</dcterms:modified>
  <cp:revision>1</cp:revision>
  <dc:subject/>
  <dc:title>雷锋精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