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7B405-C38B-4F92-B769-B7FCEBEBC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331A9-F4DE-4E44-A995-56251D2A5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D9B9E-26B5-4A42-9F22-D1E61D6E9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ADA4D-1302-45FA-87E9-754A2B2AA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D6773-BF26-470E-8E1A-CA17FDB37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DEB44-7570-49E9-AA9D-3FCF7B765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D125C-9603-4A58-B8A6-3BB5551F5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42EC3-59BE-415C-BAB8-11782ED2F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E1F34-6D2F-4F6C-82B0-5D65D781E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0DCB4-D6DA-4035-95A1-39FFCBAA2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E27BA-A154-4634-8464-5F3931449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991F8-6C05-41E9-B318-F08A85068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A4BFB-1333-4334-AB5F-E11515C54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4D43F-77A4-49CD-A7E3-92066CD38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BC693-B811-4F16-A2F5-26D16CFAC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71E96-53E0-4002-9BA7-414EF1863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F7BFE-97DE-411A-AABC-8BC336439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71CB7-B5CA-4BE1-84FE-B7D390A6A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3B295-1E78-423B-BC34-90D5D57DD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8286C-C569-4A57-ABE7-16EC4B3A1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24B50-10E7-4720-9B4B-ECBBB6052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339C9-DB4F-42BD-8DB7-62A2981A3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F2DF9-C4DC-4C59-AC44-96554C095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75514-711B-484C-89A9-3F0CFFE62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6" descr=""/>
          <p:cNvPicPr/>
          <p:nvPr/>
        </p:nvPicPr>
        <p:blipFill>
          <a:blip r:embed="rId2"/>
          <a:stretch/>
        </p:blipFill>
        <p:spPr>
          <a:xfrm>
            <a:off x="324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流程图: 过程 7"/>
          <p:cNvSpPr/>
          <p:nvPr/>
        </p:nvSpPr>
        <p:spPr>
          <a:xfrm>
            <a:off x="0" y="0"/>
            <a:ext cx="9140760" cy="6858000"/>
          </a:xfrm>
          <a:prstGeom prst="flowChartProcess">
            <a:avLst/>
          </a:prstGeom>
          <a:gradFill rotWithShape="0">
            <a:gsLst>
              <a:gs pos="0">
                <a:srgbClr val="e1e7f5"/>
              </a:gs>
              <a:gs pos="100000">
                <a:srgbClr val="010a2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bfbfb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bfbfb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bfbfb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bfbfb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bfbfb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EDB6E-A13D-4B4B-B7A9-8642978BAE91}" type="datetime">
              <a:rPr b="0" lang="zh-CN" sz="1200" spc="-1" strike="noStrike">
                <a:solidFill>
                  <a:srgbClr val="ffffff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BA538-57A6-4489-B011-D2BB4E31086B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63245-16F0-4FB1-85B2-32237D350851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0B445-D829-49D6-A988-E1B37B00293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图片 6" descr=""/>
          <p:cNvPicPr/>
          <p:nvPr/>
        </p:nvPicPr>
        <p:blipFill>
          <a:blip r:embed="rId1"/>
          <a:stretch/>
        </p:blipFill>
        <p:spPr>
          <a:xfrm>
            <a:off x="324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矩形 9"/>
          <p:cNvSpPr/>
          <p:nvPr/>
        </p:nvSpPr>
        <p:spPr>
          <a:xfrm>
            <a:off x="0" y="0"/>
            <a:ext cx="9144000" cy="436572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100000">
                <a:srgbClr val="e1e7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" name="Group 5"/>
          <p:cNvGrpSpPr/>
          <p:nvPr/>
        </p:nvGrpSpPr>
        <p:grpSpPr>
          <a:xfrm>
            <a:off x="-6480" y="4365720"/>
            <a:ext cx="9137880" cy="2232000"/>
            <a:chOff x="-6480" y="4365720"/>
            <a:chExt cx="9137880" cy="2232000"/>
          </a:xfrm>
        </p:grpSpPr>
        <p:grpSp>
          <p:nvGrpSpPr>
            <p:cNvPr id="87" name="Group 6"/>
            <p:cNvGrpSpPr/>
            <p:nvPr/>
          </p:nvGrpSpPr>
          <p:grpSpPr>
            <a:xfrm>
              <a:off x="-6480" y="4365720"/>
              <a:ext cx="9137880" cy="2232000"/>
              <a:chOff x="-6480" y="4365720"/>
              <a:chExt cx="9137880" cy="2232000"/>
            </a:xfrm>
          </p:grpSpPr>
          <p:sp>
            <p:nvSpPr>
              <p:cNvPr id="88" name="直接连接符 8"/>
              <p:cNvSpPr/>
              <p:nvPr/>
            </p:nvSpPr>
            <p:spPr>
              <a:xfrm>
                <a:off x="-6480" y="4365720"/>
                <a:ext cx="9137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直接连接符 11"/>
              <p:cNvSpPr/>
              <p:nvPr/>
            </p:nvSpPr>
            <p:spPr>
              <a:xfrm flipH="1">
                <a:off x="2415600" y="4365720"/>
                <a:ext cx="2302560" cy="223200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0" name="直接连接符 14"/>
            <p:cNvSpPr/>
            <p:nvPr/>
          </p:nvSpPr>
          <p:spPr>
            <a:xfrm>
              <a:off x="4070880" y="5013720"/>
              <a:ext cx="38055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11280" y="2693880"/>
            <a:ext cx="741528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Impact"/>
              </a:rPr>
              <a:t>蓝光质感</a:t>
            </a:r>
            <a:r>
              <a:rPr b="0" lang="zh-CN" sz="4000" spc="-1" strike="noStrike">
                <a:solidFill>
                  <a:srgbClr val="ffffff"/>
                </a:solidFill>
                <a:latin typeface="Impact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Impact"/>
              </a:rPr>
              <a:t>模板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0" y="4437000"/>
            <a:ext cx="4248000" cy="6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Impact"/>
              </a:rPr>
              <a:t>此处添加标题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bfbfb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此处添加文本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bfbfb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此处添加文本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bfbfb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此处添加文本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5" name="Picture 2" descr=""/>
          <p:cNvPicPr/>
          <p:nvPr/>
        </p:nvPicPr>
        <p:blipFill>
          <a:blip r:embed="rId1"/>
          <a:stretch/>
        </p:blipFill>
        <p:spPr>
          <a:xfrm>
            <a:off x="3273480" y="1628640"/>
            <a:ext cx="5508720" cy="3672000"/>
          </a:xfrm>
          <a:prstGeom prst="rect">
            <a:avLst/>
          </a:prstGeom>
          <a:ln cap="sq" w="889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直角三角形 9"/>
          <p:cNvSpPr/>
          <p:nvPr/>
        </p:nvSpPr>
        <p:spPr>
          <a:xfrm flipH="1">
            <a:off x="8387640" y="6093000"/>
            <a:ext cx="755640" cy="765000"/>
          </a:xfrm>
          <a:prstGeom prst="rtTriangl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Impact"/>
              </a:rPr>
              <a:t>此处添加标题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68360" y="1557360"/>
            <a:ext cx="820728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bfbfb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此处添加文本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bfbfb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此处添加文本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bfbfb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此处添加文本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TextBox 5"/>
          <p:cNvSpPr/>
          <p:nvPr/>
        </p:nvSpPr>
        <p:spPr>
          <a:xfrm>
            <a:off x="8461440" y="6488280"/>
            <a:ext cx="68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0" name="Group 6"/>
          <p:cNvGrpSpPr/>
          <p:nvPr/>
        </p:nvGrpSpPr>
        <p:grpSpPr>
          <a:xfrm>
            <a:off x="4211640" y="1397160"/>
            <a:ext cx="4578480" cy="4063680"/>
            <a:chOff x="4211640" y="1397160"/>
            <a:chExt cx="4578480" cy="4063680"/>
          </a:xfrm>
        </p:grpSpPr>
        <p:sp>
          <p:nvSpPr>
            <p:cNvPr id="101" name="Oval 7"/>
            <p:cNvSpPr/>
            <p:nvPr/>
          </p:nvSpPr>
          <p:spPr>
            <a:xfrm>
              <a:off x="5898240" y="2894040"/>
              <a:ext cx="1205280" cy="1069560"/>
            </a:xfrm>
            <a:prstGeom prst="ellipse">
              <a:avLst/>
            </a:prstGeom>
            <a:gradFill rotWithShape="0">
              <a:gsLst>
                <a:gs pos="0">
                  <a:srgbClr val="204a78"/>
                </a:gs>
                <a:gs pos="100000">
                  <a:srgbClr val="2962a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Rectangle 8"/>
            <p:cNvSpPr/>
            <p:nvPr/>
          </p:nvSpPr>
          <p:spPr>
            <a:xfrm>
              <a:off x="6074640" y="3050640"/>
              <a:ext cx="852120" cy="75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760" rIns="41760" tIns="41760" bIns="41760" anchor="ctr">
              <a:noAutofit/>
            </a:bodyPr>
            <a:p>
              <a:pPr algn="ctr">
                <a:lnSpc>
                  <a:spcPct val="90000"/>
                </a:lnSpc>
                <a:spcAft>
                  <a:spcPts val="1437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title</a:t>
              </a:r>
              <a:endParaRPr b="0" lang="en-US" sz="3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AutoShape 9"/>
            <p:cNvSpPr/>
            <p:nvPr/>
          </p:nvSpPr>
          <p:spPr>
            <a:xfrm rot="16200000">
              <a:off x="6387840" y="2481840"/>
              <a:ext cx="226080" cy="409680"/>
            </a:xfrm>
            <a:prstGeom prst="rightArrow">
              <a:avLst>
                <a:gd name="adj1" fmla="val 60000"/>
                <a:gd name="adj2" fmla="val 50000"/>
              </a:avLst>
            </a:prstGeom>
            <a:gradFill rotWithShape="0">
              <a:gsLst>
                <a:gs pos="0">
                  <a:srgbClr val="2a598f"/>
                </a:gs>
                <a:gs pos="100000">
                  <a:srgbClr val="3475c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Rectangle 10"/>
            <p:cNvSpPr/>
            <p:nvPr/>
          </p:nvSpPr>
          <p:spPr>
            <a:xfrm rot="16200000">
              <a:off x="6421320" y="2597760"/>
              <a:ext cx="158400" cy="24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Oval 11"/>
            <p:cNvSpPr/>
            <p:nvPr/>
          </p:nvSpPr>
          <p:spPr>
            <a:xfrm>
              <a:off x="5898240" y="1397160"/>
              <a:ext cx="1205280" cy="1069560"/>
            </a:xfrm>
            <a:prstGeom prst="ellipse">
              <a:avLst/>
            </a:prstGeom>
            <a:gradFill rotWithShape="0">
              <a:gsLst>
                <a:gs pos="0">
                  <a:srgbClr val="1d446e"/>
                </a:gs>
                <a:gs pos="100000">
                  <a:srgbClr val="255a9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Rectangle 12"/>
            <p:cNvSpPr/>
            <p:nvPr/>
          </p:nvSpPr>
          <p:spPr>
            <a:xfrm>
              <a:off x="6074640" y="1553760"/>
              <a:ext cx="852120" cy="75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760" rIns="41760" tIns="41760" bIns="41760" anchor="ctr">
              <a:noAutofit/>
            </a:bodyPr>
            <a:p>
              <a:pPr algn="ctr">
                <a:lnSpc>
                  <a:spcPct val="90000"/>
                </a:lnSpc>
                <a:spcAft>
                  <a:spcPts val="1437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1</a:t>
              </a:r>
              <a:endParaRPr b="0" lang="en-US" sz="3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AutoShape 13"/>
            <p:cNvSpPr/>
            <p:nvPr/>
          </p:nvSpPr>
          <p:spPr>
            <a:xfrm>
              <a:off x="7209360" y="3247200"/>
              <a:ext cx="254880" cy="363600"/>
            </a:xfrm>
            <a:prstGeom prst="rightArrow">
              <a:avLst>
                <a:gd name="adj1" fmla="val 60000"/>
                <a:gd name="adj2" fmla="val 50000"/>
              </a:avLst>
            </a:prstGeom>
            <a:gradFill rotWithShape="0">
              <a:gsLst>
                <a:gs pos="0">
                  <a:srgbClr val="59749b"/>
                </a:gs>
                <a:gs pos="100000">
                  <a:srgbClr val="7498c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Rectangle 14"/>
            <p:cNvSpPr/>
            <p:nvPr/>
          </p:nvSpPr>
          <p:spPr>
            <a:xfrm>
              <a:off x="7209360" y="3319920"/>
              <a:ext cx="178200" cy="21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Oval 15"/>
            <p:cNvSpPr/>
            <p:nvPr/>
          </p:nvSpPr>
          <p:spPr>
            <a:xfrm>
              <a:off x="7584840" y="2894040"/>
              <a:ext cx="1205280" cy="1069560"/>
            </a:xfrm>
            <a:prstGeom prst="ellipse">
              <a:avLst/>
            </a:prstGeom>
            <a:gradFill rotWithShape="0">
              <a:gsLst>
                <a:gs pos="0">
                  <a:srgbClr val="456696"/>
                </a:gs>
                <a:gs pos="100000">
                  <a:srgbClr val="5b86c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Rectangle 16"/>
            <p:cNvSpPr/>
            <p:nvPr/>
          </p:nvSpPr>
          <p:spPr>
            <a:xfrm>
              <a:off x="7761240" y="3050640"/>
              <a:ext cx="852120" cy="75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760" rIns="41760" tIns="41760" bIns="41760" anchor="ctr">
              <a:noAutofit/>
            </a:bodyPr>
            <a:p>
              <a:pPr algn="ctr">
                <a:lnSpc>
                  <a:spcPct val="90000"/>
                </a:lnSpc>
                <a:spcAft>
                  <a:spcPts val="1437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4</a:t>
              </a:r>
              <a:endParaRPr b="0" lang="en-US" sz="3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AutoShape 17"/>
            <p:cNvSpPr/>
            <p:nvPr/>
          </p:nvSpPr>
          <p:spPr>
            <a:xfrm rot="5400000">
              <a:off x="6387840" y="3966120"/>
              <a:ext cx="226080" cy="409680"/>
            </a:xfrm>
            <a:prstGeom prst="rightArrow">
              <a:avLst>
                <a:gd name="adj1" fmla="val 60000"/>
                <a:gd name="adj2" fmla="val 50000"/>
              </a:avLst>
            </a:prstGeom>
            <a:gradFill rotWithShape="0">
              <a:gsLst>
                <a:gs pos="0">
                  <a:srgbClr val="8993a8"/>
                </a:gs>
                <a:gs pos="100000">
                  <a:srgbClr val="b3c3d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Rectangle 18"/>
            <p:cNvSpPr/>
            <p:nvPr/>
          </p:nvSpPr>
          <p:spPr>
            <a:xfrm rot="5400000">
              <a:off x="6420960" y="4014000"/>
              <a:ext cx="158400" cy="24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Oval 19"/>
            <p:cNvSpPr/>
            <p:nvPr/>
          </p:nvSpPr>
          <p:spPr>
            <a:xfrm>
              <a:off x="5898240" y="4391280"/>
              <a:ext cx="1205280" cy="1069560"/>
            </a:xfrm>
            <a:prstGeom prst="ellipse">
              <a:avLst/>
            </a:prstGeom>
            <a:gradFill rotWithShape="0">
              <a:gsLst>
                <a:gs pos="0">
                  <a:srgbClr val="8390a7"/>
                </a:gs>
                <a:gs pos="100000">
                  <a:srgbClr val="acbe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Rectangle 20"/>
            <p:cNvSpPr/>
            <p:nvPr/>
          </p:nvSpPr>
          <p:spPr>
            <a:xfrm>
              <a:off x="6074640" y="4547880"/>
              <a:ext cx="852120" cy="75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760" rIns="41760" tIns="41760" bIns="41760" anchor="ctr">
              <a:noAutofit/>
            </a:bodyPr>
            <a:p>
              <a:pPr algn="ctr">
                <a:lnSpc>
                  <a:spcPct val="90000"/>
                </a:lnSpc>
                <a:spcAft>
                  <a:spcPts val="1437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3</a:t>
              </a:r>
              <a:endParaRPr b="0" lang="en-US" sz="3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AutoShape 21"/>
            <p:cNvSpPr/>
            <p:nvPr/>
          </p:nvSpPr>
          <p:spPr>
            <a:xfrm rot="10800000">
              <a:off x="5537160" y="3247200"/>
              <a:ext cx="254880" cy="363600"/>
            </a:xfrm>
            <a:prstGeom prst="rightArrow">
              <a:avLst>
                <a:gd name="adj1" fmla="val 60000"/>
                <a:gd name="adj2" fmla="val 50000"/>
              </a:avLst>
            </a:prstGeom>
            <a:gradFill rotWithShape="0">
              <a:gsLst>
                <a:gs pos="0">
                  <a:srgbClr val="59749b"/>
                </a:gs>
                <a:gs pos="100000">
                  <a:srgbClr val="7498c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Rectangle 22"/>
            <p:cNvSpPr/>
            <p:nvPr/>
          </p:nvSpPr>
          <p:spPr>
            <a:xfrm>
              <a:off x="5613840" y="3319920"/>
              <a:ext cx="178200" cy="21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Oval 23"/>
            <p:cNvSpPr/>
            <p:nvPr/>
          </p:nvSpPr>
          <p:spPr>
            <a:xfrm>
              <a:off x="4211640" y="2894040"/>
              <a:ext cx="1205280" cy="1069560"/>
            </a:xfrm>
            <a:prstGeom prst="ellipse">
              <a:avLst/>
            </a:prstGeom>
            <a:gradFill rotWithShape="0">
              <a:gsLst>
                <a:gs pos="0">
                  <a:srgbClr val="456696"/>
                </a:gs>
                <a:gs pos="100000">
                  <a:srgbClr val="5b86c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Rectangle 24"/>
            <p:cNvSpPr/>
            <p:nvPr/>
          </p:nvSpPr>
          <p:spPr>
            <a:xfrm>
              <a:off x="4388040" y="3050640"/>
              <a:ext cx="852120" cy="75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760" rIns="41760" tIns="41760" bIns="41760" anchor="ctr">
              <a:noAutofit/>
            </a:bodyPr>
            <a:p>
              <a:pPr algn="ctr">
                <a:lnSpc>
                  <a:spcPct val="90000"/>
                </a:lnSpc>
                <a:spcAft>
                  <a:spcPts val="1437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2</a:t>
              </a:r>
              <a:endParaRPr b="0" lang="en-US" sz="33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468360" y="1628280"/>
            <a:ext cx="820728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bfbfb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此处添加文本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bfbfb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此处添加文本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bfbfb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此处添加文本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17600" y="-17640"/>
            <a:ext cx="7369200" cy="9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Impact"/>
              </a:rPr>
              <a:t>此处添加标题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1" name="矩形 5"/>
          <p:cNvSpPr/>
          <p:nvPr/>
        </p:nvSpPr>
        <p:spPr>
          <a:xfrm>
            <a:off x="552240" y="19080"/>
            <a:ext cx="52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23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24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9T23:11:00Z</dcterms:created>
  <dc:creator>lenovo</dc:creator>
  <dc:description/>
  <dc:language>en-US</dc:language>
  <cp:lastModifiedBy>a</cp:lastModifiedBy>
  <dcterms:modified xsi:type="dcterms:W3CDTF">2014-12-15T17:53:05Z</dcterms:modified>
  <cp:revision>7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