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7B74-69AF-4F0A-A464-DA44B00D4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F72B-3D75-49E5-B1EA-2FD65230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25E7-ADE2-4017-8B8E-5278085D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5C45-9873-4FB6-BAE0-20F02B31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3437-5A90-4E60-8177-2A6D48FB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1048-349E-459E-B14D-2597C7B8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FA7B-A056-4747-B001-6713439F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44A8-69C6-4E91-96DF-7432793D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D2D9-DAE2-4917-B7CC-6AF9C4FD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CC3C-F255-4813-9675-7489FFC5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A204-5664-429B-AD2D-FAB08CF37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503B-D436-49DE-B201-58E3B7AD5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ADB7-A69B-427E-9CC8-E2ED56F72BC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1973-2AFA-4E9C-9B10-4B329583A0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4T11:37:02Z</dcterms:created>
  <dc:creator>lenovo</dc:creator>
  <dc:description/>
  <cp:keywords/>
  <dc:language>en-US</dc:language>
  <cp:lastModifiedBy>a</cp:lastModifiedBy>
  <dcterms:modified xsi:type="dcterms:W3CDTF">2014-05-21T02:51:23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