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923-7BD6-4017-8BE0-4AF97961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0B3-D917-45C8-8E92-07F06216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1AD-593E-4B4C-8D0E-04C8A622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564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672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56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564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672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D42-1DDE-456C-AE69-0D66E4AC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9C47-815A-40A0-9CAF-9D82081E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082-8FAA-4F88-9749-3C786BD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7958-A237-4F0A-BC91-2A93AE2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9067-D13E-4099-85BA-FC37CBB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A73F-E12E-4C7F-B42B-894362F3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560" y="115560"/>
            <a:ext cx="5832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2DE-CBE9-4691-AFEF-F16EDDCE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1F31-F192-46F0-AD92-A28FF85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32B-E070-459A-9DA3-65754F1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3264-296A-42D6-8A15-35C9F6A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5597-835F-4A7B-AFE5-6841758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B88-CB32-45A1-A0EF-51BE9353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BBD-D249-4AE4-9AEF-B739760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564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672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56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564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672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9648-5ECF-4C11-8DFA-90CF2B36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9D7-08AC-403B-86F3-9EB9BC03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95C-865A-42DB-A6D9-85575F3B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67B-AA2D-482F-B57D-389836F8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560" y="115560"/>
            <a:ext cx="5832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0B6-19BD-472D-BB83-14C148F6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22E-D6D8-43D6-AFF7-0CD0530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2AB-0BFE-46B0-BF21-8EF44B1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B38-AC34-4C9F-B5C5-F523C31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HIPPING 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25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6760" y="633708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623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D35-CC63-4C55-B42F-4F824883C7C0}" type="slidenum">
              <a:rPr b="1" lang="en-GB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HIPPING TB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0"/>
            <a:ext cx="9144000" cy="587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425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336760" y="633708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23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041F-B297-4FE7-A30D-230FA6B90F78}" type="slidenum">
              <a:rPr b="1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353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蓝色机械工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3024360"/>
            <a:ext cx="8353440" cy="119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HIPPING-TB"/>
          <p:cNvPicPr/>
          <p:nvPr/>
        </p:nvPicPr>
        <p:blipFill>
          <a:blip r:embed="rId1"/>
          <a:stretch/>
        </p:blipFill>
        <p:spPr>
          <a:xfrm>
            <a:off x="0" y="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46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9:55:26Z</dcterms:created>
  <dc:creator>graphics07</dc:creator>
  <dc:description/>
  <dc:language>en-US</dc:language>
  <cp:lastModifiedBy>a</cp:lastModifiedBy>
  <dcterms:modified xsi:type="dcterms:W3CDTF">2014-12-26T05:12:2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KSOVERCOUNTS">
    <vt:lpwstr>20</vt:lpwstr>
  </property>
  <property fmtid="{D5CDD505-2E9C-101B-9397-08002B2CF9AE}" pid="4" name="KSOVERGUID">
    <vt:lpwstr>df8b161f96fcb432ceee70dcd39d0637|da2f0f93881fcbf7c7640c8100fcc7b3</vt:lpwstr>
  </property>
</Properties>
</file>