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F8A-D3DE-4B53-9AAC-3B409B5E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041-391F-440D-8220-CA33E8CC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8F1-25CA-40B6-8465-740D48FC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885-2A41-4105-AB2E-FE897813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0733-E74E-46CC-A8C7-8B52F73E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8E26-6E11-4423-B41A-2851743F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DBEF-25D2-474C-8F31-82B77D0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21F-477A-46F8-9D7D-ADC35F8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06A-D20B-46A8-9F6D-22F70277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27B8-50ED-4BDA-95EE-22F29C27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332-BA6E-4128-8AEA-74757A6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728-ECCE-46F0-B49A-D76FC0C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487-7552-4F73-AAC9-233CA7D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6EE1-5751-4020-B5DA-5348BA5A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16BC-9B8C-4EC7-8D1A-1A06142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5BB-9F6F-42CB-84B9-8302DB88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160-8107-4DF2-A512-0121F3D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D7F-0F9E-458B-970D-2257421B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EC0-DF7E-4C67-9881-B128DF99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D08-3222-4546-B874-5FB5E58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E3B-D09D-4894-976D-ED513182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B3A-F913-46D0-AAF3-EF3AC8D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FC3-50DC-4D02-A4BC-8CE38E9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0D6-6B13-4EF0-8F91-75AC9C6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B8B-E2D2-4EC7-8BA2-070655BC74B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FB01-BB70-479E-9A29-CA0619C273E3}" type="slidenum">
              <a:rPr b="1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2743200" y="3276720"/>
            <a:ext cx="51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设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编辑配色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添加修改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直接选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第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PT www.1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41520" y="3808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38480" y="3200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9:38:18Z</dcterms:created>
  <dc:creator/>
  <dc:description/>
  <dc:language>en-US</dc:language>
  <cp:lastModifiedBy>a</cp:lastModifiedBy>
  <dcterms:modified xsi:type="dcterms:W3CDTF">2014-12-26T05:13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