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D83-4B99-4565-B451-849F9486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AFE-F201-42B7-A582-4601BF14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ABA-0CD2-4545-BA22-72897CF5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6CF-92B4-44D9-8A3D-A35033E7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029F-B08B-4D86-8E92-F07F855E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8CBE-26E6-4EFA-BFA3-CE4E14A5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1AAA-0DEB-4F62-A12C-126E8535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DB8D-70B2-4E15-BBF5-3B4C7023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79C9-5990-4952-88D2-B64BFB3C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AF5E-46AE-4949-B4AD-ECA95F70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B898-360F-47E3-95BF-33B2D175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D1C-38EC-4CD3-8161-B2C47D19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B71A-99AE-4971-AF58-0E2ECB9C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2F97-24BD-45A6-A863-FE6DF8B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9311-8551-4E4A-B48F-86F71B17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17B1-CE17-4437-934C-0AAE0DA9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8080-1D8D-422C-948E-AB5EE6DF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C92-EF95-48D5-8D85-EE3A725B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3BD-F570-49B5-89AD-8134F0B1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899-0E15-45E7-8096-624CAFBA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A00-0D82-4D3D-8C92-45B31C7F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147-99E3-4ED8-BC57-969AC187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1C7-BEF0-4E19-80C3-E906A2D3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2D0-DBA8-445D-8AD0-4756D6D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144F-F39E-47B0-8C7A-33A67B1E47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0A98-0A67-4816-B6BA-0D8E29602C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绿色简约商务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987640" y="3860640"/>
            <a:ext cx="619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669080" y="18900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0:09:31Z</dcterms:created>
  <dc:creator>www.laptop.net.cn</dc:creator>
  <dc:description/>
  <dc:language>en-US</dc:language>
  <cp:lastModifiedBy>a</cp:lastModifiedBy>
  <dcterms:modified xsi:type="dcterms:W3CDTF">2014-12-26T05:14:0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