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719B-B5F0-45BD-A780-7FFE7B84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8251-F089-432F-87E3-503C4F6E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E061-6093-42CE-97A0-186ED68D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D67A-F8FF-421D-9D32-04C9DD22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1E26-226D-4EA9-9D8D-1DCFC13D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DEB6-B823-40F3-9D23-3F85F60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422E-103B-42B5-8898-682C9EF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DDE9-6216-457A-BBAA-4C32797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1746-D6C3-4A03-9BFB-1BB3C46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073F-9080-430D-AB92-CAD98CF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4FE4-E1A2-477B-8D71-D58DFE22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658D-26D6-4A33-8302-CAED8F7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20DD-AD87-4280-BEB0-EFC1CC899A4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597720"/>
            <a:ext cx="852480" cy="24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4360" y="2638080"/>
            <a:ext cx="57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蓝色拼图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80000" y="3935520"/>
            <a:ext cx="3744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440" y="6597720"/>
            <a:ext cx="9050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31T04:01:51Z</dcterms:modified>
  <cp:revision>8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