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AF7-5670-40C4-9079-028FCAD5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793-4315-4AB9-BB8E-10402B6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1E3-175B-4D8D-93D1-FF4108E7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CCF-58B6-427C-AC9D-8AB65CAA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6A88-9C17-4D7E-AF7C-8BB961D3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80F9-8324-4789-B6B6-B87CF5AF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AC43-8384-46BC-A5B4-E60B70F9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6196-9737-4EB2-B39F-32898796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3946-41FE-42A6-A28C-7732D66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B7DD-4077-47BC-8CED-7486676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B61-55C6-4D24-9B70-706515E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8C8-7D7D-4352-9365-DADB328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1CE-A9D6-4CEC-8683-89E05D32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8BAC-3D8A-43CB-8252-3585ECC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6B97-D97B-4620-A3E3-2D995F95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3891-B2BA-40FE-A517-38BC368E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3C38-02D9-4440-B68B-606B302C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B05E-9DE1-4E5A-88EB-B7276D44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CCD8-F8A7-47C0-BDD1-A63D790F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871F-1CF7-4CE2-AEC6-BC05E23C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EEA8-7B19-4074-B451-3A81BA29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105E-CF23-438F-B0B7-5301556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31F-2E40-4000-8657-4C52ED5D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CCF5-CA77-4745-9CA8-5E3DF9E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2BC6-475A-4A0C-9A76-E6AE2709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FC08-517E-48A3-9FDD-2641AA3C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6219-2B94-4189-AF0F-C548D27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7DBC-1A8C-4CEF-9912-C932151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726F-A433-4F86-B28F-E70596B5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0917-3F30-41A1-824E-536D2340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266-A3BA-49E9-A46D-60CFB3D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7BB-ED23-4FB4-8455-9BBE995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928-EDA2-4988-A2AF-7CCA968D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BA2-ADC3-4D62-B0AC-4014D9C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040-E6FB-4A36-9F5A-9413C709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24F-51FA-4548-A416-72F5669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9" descr="Blue-Crush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0" y="4797360"/>
            <a:ext cx="914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0" y="465300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2"/>
          <p:cNvSpPr/>
          <p:nvPr/>
        </p:nvSpPr>
        <p:spPr>
          <a:xfrm>
            <a:off x="0" y="483228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直接连接符 13"/>
          <p:cNvSpPr/>
          <p:nvPr/>
        </p:nvSpPr>
        <p:spPr>
          <a:xfrm>
            <a:off x="0" y="648504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8320" y="115560"/>
            <a:ext cx="50612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-36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24816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11444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EC5-17F2-4979-B454-5C6439DE89F9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24816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41144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43C5-2EE8-4149-8E76-F3E46910153C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958320" y="115560"/>
            <a:ext cx="50612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C21F-BCCE-4E89-AE34-ED394044F8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150-3A33-41B3-9AD0-25498D44B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22360" y="5295960"/>
            <a:ext cx="8099280" cy="3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此输入单位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156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蓝色清新</a:t>
            </a: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演示模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27040" y="5970600"/>
            <a:ext cx="784872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E001-C3E2-4402-B5C1-5266693AB084}" type="datetime2"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26年7月30日 星期四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1789200" y="2116080"/>
            <a:ext cx="539640" cy="539640"/>
          </a:xfrm>
          <a:prstGeom prst="pi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2160" y="97920"/>
            <a:ext cx="7251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</a:rPr>
              <a:t>目    录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39" name="圆角矩形 5"/>
          <p:cNvSpPr/>
          <p:nvPr/>
        </p:nvSpPr>
        <p:spPr>
          <a:xfrm>
            <a:off x="2657520" y="2987640"/>
            <a:ext cx="5060880" cy="5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766880" y="3006720"/>
            <a:ext cx="539640" cy="53964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7"/>
          <p:cNvSpPr/>
          <p:nvPr/>
        </p:nvSpPr>
        <p:spPr>
          <a:xfrm>
            <a:off x="2638440" y="3917880"/>
            <a:ext cx="5079960" cy="5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功能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774800" y="3917880"/>
            <a:ext cx="539640" cy="54000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5"/>
          <p:cNvSpPr/>
          <p:nvPr/>
        </p:nvSpPr>
        <p:spPr>
          <a:xfrm>
            <a:off x="2679840" y="2097000"/>
            <a:ext cx="5060880" cy="540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项目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50612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5:23:58Z</dcterms:created>
  <dc:creator>ibm</dc:creator>
  <dc:description/>
  <dc:language>en-US</dc:language>
  <cp:lastModifiedBy>a</cp:lastModifiedBy>
  <dcterms:modified xsi:type="dcterms:W3CDTF">2014-12-21T03:44:4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