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938D-B7AC-42ED-B562-D8B3CF01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653-A40B-4EDF-AE60-EA933E20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6597-67C3-473B-840C-9FF2E9CD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743-90BD-41FA-96AE-C973006E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6260-EF4F-49ED-AE69-181B2C2E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A260-2832-4648-B903-13826215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2057-5AAB-41B2-8AFD-CEF6F87D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C60B-864E-41C1-9A4F-3DB87D02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4CED-DF51-44AD-85E6-1DFABA1D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A5F9-EA85-486D-9B95-51160565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A771-36DE-4F0E-8797-04783E43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3A3-1881-45D9-9ECC-3EDE3AA9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4FA3-A2E7-417A-BB97-127764C5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FF14-7D68-46FA-9CA5-AAABDEAF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2307-6608-45AB-8F09-E97238A2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648F-E397-4911-AF1D-E3A9C2C0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7C9F-3F82-4CCF-9E2E-252E7A74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D7A-F580-47BD-8851-BE406D46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450-586B-4EC2-BC5E-018A4472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375-C927-4579-9CC0-88B3EA4F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93D4-78CD-47FC-8370-5876AAE4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B8AC-03F2-403B-99EE-5AF77691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A549-6193-4B1C-B093-CC730519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875D-5F77-4028-912D-4990CEB5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264D-9DFB-438F-ADF9-8490B162345B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4D01-7C37-4BAA-BB81-73FE6912D86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EE50-A402-4088-A6B5-4C80A778D8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168b2"/>
                </a:solidFill>
                <a:latin typeface="Calibri"/>
                <a:ea typeface="微软雅黑"/>
              </a:rPr>
              <a:t>蓝色曲线演示</a:t>
            </a:r>
            <a:r>
              <a:rPr b="0" lang="zh-CN" sz="4400" spc="-1" strike="noStrike">
                <a:solidFill>
                  <a:srgbClr val="3168b2"/>
                </a:solidFill>
                <a:latin typeface="Calibri"/>
                <a:ea typeface="微软雅黑"/>
              </a:rPr>
              <a:t>ppt</a:t>
            </a:r>
            <a:r>
              <a:rPr b="0" lang="zh-CN" sz="4400" spc="-1" strike="noStrike">
                <a:solidFill>
                  <a:srgbClr val="3168b2"/>
                </a:solidFill>
                <a:latin typeface="Calibri"/>
                <a:ea typeface="微软雅黑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fr-FR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fr-FR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5:31:26Z</dcterms:created>
  <dc:creator/>
  <dc:description/>
  <dc:language>en-US</dc:language>
  <cp:lastModifiedBy>a</cp:lastModifiedBy>
  <dcterms:modified xsi:type="dcterms:W3CDTF">2014-12-15T17:52:27Z</dcterms:modified>
  <cp:revision>2</cp:revision>
  <dc:subject/>
  <dc:title>请输入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