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3ED-7C16-4E43-89D8-7B6F4B29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E18-753E-40CF-882B-7A3B753F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DB2-BC60-4AF0-A40A-4ACACE92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EBE-B92C-4E60-AD3A-8944CE83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638B-6A32-49DE-9D59-A0F3EC88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151F-BC11-4AB5-BFD9-BA14E1B4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F249-8EDD-4C19-9B86-DBE0CCE6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395C-004E-4082-90E4-407C03CC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3CF6-0476-45B7-AAAD-F6351DC0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431E-5FF2-46D7-AB3C-6B321277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D2F2-95BC-48F2-80FE-4F62D80E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49E-8EC6-4CA4-8B37-5B2114C5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055A-031E-4DB8-BFFD-B9107549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0E24-B59E-41B6-81CE-F7A1B87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A237-67FC-4F59-8D65-2EE5D72A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0423-530C-4F31-B2C3-2D4BF93A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0FA5-5841-4DD9-8FAD-2CACC869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29A-27B5-47DC-A6D1-144BF25C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28F-882A-48C6-9E02-9BFEA79D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41F-CB2F-4904-A3FE-54239755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B95-F49E-48B2-9C4C-7A8FAC10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DC6-9BFE-4CD0-8526-B5E2B6AF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4A6-DB3A-4586-9128-C3449F0B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024-1820-4EA4-9782-86DE1D34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461440" y="6670800"/>
            <a:ext cx="695160" cy="16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ECB2-06A7-44E4-B31D-E61E1157FBB2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3306-6FB9-4309-97DE-1F0BD058349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A54D-0B2C-4A07-B1CA-01B6EC02FC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1557000"/>
            <a:ext cx="59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6666"/>
                </a:solidFill>
                <a:latin typeface="Arial"/>
              </a:rPr>
              <a:t>蓝色小屋</a:t>
            </a:r>
            <a:r>
              <a:rPr b="1" lang="es-UY" sz="4000" spc="-1" strike="noStrike">
                <a:solidFill>
                  <a:srgbClr val="006666"/>
                </a:solidFill>
                <a:latin typeface="Arial"/>
              </a:rPr>
              <a:t>ppt</a:t>
            </a:r>
            <a:r>
              <a:rPr b="1" lang="es-UY" sz="4000" spc="-1" strike="noStrike">
                <a:solidFill>
                  <a:srgbClr val="006666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4-12-26T05:12:41Z</dcterms:modified>
  <cp:revision>82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