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7BB-3476-46E0-B209-167EEE39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450F-5BC6-4D1B-BD51-60CFDEFE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17A-2E33-4743-88BE-1F8005B3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445-2A33-4281-A6F0-34B1C74B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EBB1-79DD-43F9-B482-67536F07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80F-CED6-4B8B-B2FA-3680B0D1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958-4E3B-4980-A3F8-A01EEC1E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DC4-10A6-4A10-B49D-0CC48667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4A5E-6606-4082-BF22-B3B55194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285A-E152-4AC7-AD5C-5A9CA062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3DA-D75B-4F50-B5CD-DEE177C8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D9C2-0D5C-42D4-B47D-196BC964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8172360" y="6597720"/>
            <a:ext cx="936720" cy="247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37C1-F1C4-4935-AAE3-69A708DD96CA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绿叶环保</a:t>
            </a: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a</cp:lastModifiedBy>
  <dcterms:modified xsi:type="dcterms:W3CDTF">2014-12-31T04:41:14Z</dcterms:modified>
  <cp:revision>65</cp:revision>
  <dc:subject/>
  <dc:title>Tex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