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D5088-B97C-4A8A-989A-35276EF5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95044-6697-4914-A376-4453956E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CFCD5-BEA2-4A2E-8743-E4562055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BD068-0138-4A87-9E55-A6F43F98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E6E56-72D1-4DEC-BED4-788DD6C3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E5E85-A830-4B7A-868B-FA4BB525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463D2-6459-42A4-9BEA-63A3BA9A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9B60D-DE3C-4BA7-B1F3-05861618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B88B2-9F30-4567-A9DF-4F8D1F83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37CF8-BE5E-4388-B582-DBE28BEC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721A7-EAE1-4DE7-B4DD-551501F8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A017E-0F62-4ECB-A60F-470881E4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F5FBD-9229-4156-BB8D-758854E4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C4347-96D3-4300-9E79-5F249F18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C02B4-1D31-423C-806E-EEFAB078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90F5E-C416-43A2-A667-9457F8D3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F8EA7-A72B-40E7-B2A0-FE6DEDC3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8E7D1-98EE-4388-87AE-8F8C3ACF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E58D5-3AF6-406F-A38D-26AD6551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8F950-63B4-41DE-A250-8E4173EC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742F9-9F6F-4E69-9C9D-D36306CE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BD3FE-5516-4821-8318-F40D4C59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51ADA-D327-4BC9-8CB4-A35D110C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286B7-DDA5-4A54-BE55-A55B241A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F7983-78D8-422D-AE25-3551D61C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B53A2-D566-45C9-A791-819E4029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664CD-FFCF-4FD4-B26D-E72412DC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39C70-D03A-4737-88E9-FF0B5B89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C4CC3-767C-4FBC-99ED-288EAFB3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5A2BE-AC1F-4A79-A4BB-2F160AAC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142-CAD8-4561-8BA1-4F2083DE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82760-9084-4BAA-8894-A74ECEA1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6D73D-E6AE-4656-B81D-1F166E5F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E715D-398B-4AAC-AA25-1DB4343A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C7953-F437-40CD-B6A9-1ED30C70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5E4B9-D309-42B5-8D75-C9857A1A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932C2-D693-40D6-B811-DA5308CE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DFF86-5D89-4551-961D-151A403F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E3398-EDAB-4C39-847F-404E9F80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1C895-1968-43B0-825A-0C829BD2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36FE8-0C1F-405A-90F6-10257CA2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9B5-837F-42AF-AF4B-86A520BF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4E301-54E0-4F37-900B-4541CFB0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C44F6-515C-4D62-B3CF-FCA595A4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C9B50-4CFF-4004-97AF-465F4C36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FE87A-973E-4723-BD4C-448B03EC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798AF-1C91-4F9B-A4B5-B1633359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D9D2C-FB88-43DC-919B-E573F5E1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E636E-55BF-4357-9016-2B0A85CF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A347A-79F2-46BB-BC1F-D569CF72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37E51-DAC0-4027-838A-9C8597D7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FC9EC-8B9A-4442-9AE9-ABEDBFF8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00A-2AD0-4C9D-A01C-737B8839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577BD-02F8-4280-BD19-FA23BE03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20C02-44CA-45B1-B6FE-07A0B4FB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49442-859E-42D1-BA44-C86853B7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959AB-3F13-4630-AB0E-7DEAA46F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25B8F-0C18-4862-B39A-51F044D8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1049C-016A-4A27-A7F2-547F01EA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C5C1F-ADAD-4F41-B800-DB98F3A3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41F-B82D-416E-83B4-D8057109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5D8-9025-4A12-AF6C-836E80E5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140-5472-4BF8-8113-DD32521F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E97-9ECE-49F9-B649-054CC656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262-3C7B-40BF-9FFA-136596FD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93A-61B6-4C91-B8FD-D8B71ED5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317-006D-40D5-8D5E-76A7127E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189-F489-403B-8171-E9E06988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A51-F39F-4326-9557-A825B00F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BDCA-11D5-4E88-A9B6-E0C2E356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D75B-860A-4C6F-BDA7-AC0C7335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94BB-0D3E-4FD6-A1C6-8A9D8044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0795-539F-4720-BE90-8488202E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9D1B-FE53-4D09-A490-123FE4A6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C0CA-83B8-4BBA-ACCC-207C9B82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54FF-7885-46AC-823E-C19C44E6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AD88-4C9B-4C8D-BB3D-546D9A0B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B18E-8B91-4CD8-A566-C6997127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51CA-B420-4518-9F39-929D6BF3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7F07-B9EE-488F-8A8C-336DF673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8072-0505-4D62-AC31-E749EDAA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323F-77CF-4554-B7AF-1C399F9C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9585-5FBA-4C54-80A7-197D7A07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8E8D8-765A-48FF-8A71-0D325C1D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454A1-9EF9-4F7E-9744-58CCE1AD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BF38E-2F85-4995-B2B6-589E0F39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3821-7F93-4D31-A9AB-D00C52D6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39D31-1A8A-42A6-9FCC-74AC096C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0C5C-21B8-4C44-99C4-36F23A52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41F77-2AAC-40E3-9630-ADB6B9E0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EDF67-4A1D-4C60-B151-EDD64264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D4059-CD5D-483C-B8D6-F7C48E53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F1262-A146-403F-9629-EB78E26E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03BFB-40BE-44AD-A05D-48391955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3346-6AA5-422B-B3D2-E423018B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E6343-EAA5-4700-82FB-D2DBB445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D692A-AEC6-4627-A93B-878B9408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1983-4C14-4414-9BD6-8D0941AA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DD488-F548-4DB2-BF1F-41424A40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10045-5824-4B75-889D-60541B7B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54A7-79C7-4623-9B26-94DBC579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920BA-A6C8-4F00-88CE-BB44EBF5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3C6E-B9E2-4502-8A94-E75F5F8B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E43CD-4326-49C7-ADDD-6B010CFE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648D7-A66B-4480-9995-CEF1FB36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41DA3-9D94-4A8B-ACD5-C6B98BFD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70A3-260E-442C-88AB-2EAAA557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FD338-C7EF-47B5-A2B3-3D1F9FE4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15A9C-3E86-4039-AC55-64C8F099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6D7A9-B671-47C9-AE0B-C80928F6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15EC9-F7E1-43E0-9F2A-668E6CF2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E8D56-512A-4647-9D59-1080D3B1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8153B-60F5-4C3A-BB12-13736343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ADB9A-AC0B-4E51-BBA4-5761C662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081E4-FB8B-4806-9DF3-46F19820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DD713-02E0-4153-8D13-ED4EEC9A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D666F-37ED-4F78-B07A-6CF86B97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F58EE-BD10-4312-A21F-741E7BC6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F205E-8E71-4DC9-A229-FCDAEBE8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0D19E-EC37-448A-9A31-9A761E24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BF7A8-FDDD-4474-B510-ECCBF6D5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8B71A-A83F-4978-8FB4-46AFE76E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2ECFD-5424-4C06-BD52-40A290E9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36E36-A08F-4DC2-A517-DDDB14C6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F8119-5FB7-406D-8FDF-78D3CEE2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2E23C-8529-494B-8109-C326A97A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9AC94-FA08-419B-B8F6-9F1281FA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65111-A1A8-47A3-ABEF-82981E38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5CC6E-D8B0-4FF0-A307-B95B8B95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2BD4C-ED61-4DF3-A4B6-D4ED165A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7E8F5-58BF-4A2A-A065-4B9AED4D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E7ECC-253C-4836-A4FB-69D45487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F1B83-D78A-47AE-A5AE-A2BFF865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F949E-1A0B-4EB0-97D5-670AAAE8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5705F-5FB0-45B5-8D71-28998CD0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5EDA9-8D05-4D27-A79B-89F95736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6C782-AAA3-4219-BAC4-7320215A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6723C-F70F-42CC-8A60-9B2C0305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796E8-5710-45D8-A1E7-BE498EE9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4C333-DE28-4C6B-969E-166506A2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38E38-5AA0-4F8E-878A-5F87DE8A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A2C3D-6E91-448C-AB52-9E70194A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4DB9A-6D8C-40F2-B386-28AC6E46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64FAB-C65D-4429-9DA0-9A603D68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973080" y="649440"/>
            <a:ext cx="10402920" cy="5668920"/>
          </a:xfrm>
          <a:custGeom>
            <a:avLst/>
            <a:gdLst/>
            <a:ahLst/>
            <a:rect l="l" t="t" r="r" b="b"/>
            <a:pathLst>
              <a:path w="10403167" h="5668754">
                <a:moveTo>
                  <a:pt x="0" y="10"/>
                </a:moveTo>
                <a:cubicBezTo>
                  <a:pt x="1912055" y="-2544"/>
                  <a:pt x="3788484" y="446164"/>
                  <a:pt x="5759915" y="467361"/>
                </a:cubicBezTo>
                <a:cubicBezTo>
                  <a:pt x="8546658" y="145323"/>
                  <a:pt x="8780206" y="25166"/>
                  <a:pt x="10403167" y="10"/>
                </a:cubicBezTo>
                <a:cubicBezTo>
                  <a:pt x="10304205" y="888106"/>
                  <a:pt x="10371500" y="469916"/>
                  <a:pt x="9548144" y="2557420"/>
                </a:cubicBezTo>
                <a:cubicBezTo>
                  <a:pt x="9833152" y="3590573"/>
                  <a:pt x="10284414" y="4576224"/>
                  <a:pt x="10403167" y="5656878"/>
                </a:cubicBezTo>
                <a:cubicBezTo>
                  <a:pt x="8641661" y="5597502"/>
                  <a:pt x="7058283" y="5609377"/>
                  <a:pt x="5094897" y="5122490"/>
                </a:cubicBezTo>
                <a:cubicBezTo>
                  <a:pt x="3657856" y="5668754"/>
                  <a:pt x="1745800" y="5502500"/>
                  <a:pt x="47501" y="5668754"/>
                </a:cubicBezTo>
                <a:cubicBezTo>
                  <a:pt x="47629" y="4722687"/>
                  <a:pt x="451517" y="3800370"/>
                  <a:pt x="451645" y="2854303"/>
                </a:cubicBezTo>
                <a:cubicBezTo>
                  <a:pt x="451517" y="1926623"/>
                  <a:pt x="128" y="927690"/>
                  <a:pt x="0" y="1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图片 5" descr=""/>
          <p:cNvPicPr/>
          <p:nvPr/>
        </p:nvPicPr>
        <p:blipFill>
          <a:blip r:embed="rId2"/>
          <a:srcRect l="0" t="11437" r="86" b="8651"/>
          <a:stretch/>
        </p:blipFill>
        <p:spPr>
          <a:xfrm>
            <a:off x="1149480" y="803160"/>
            <a:ext cx="10048680" cy="53596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2" name="任意多边形 6"/>
          <p:cNvSpPr/>
          <p:nvPr/>
        </p:nvSpPr>
        <p:spPr>
          <a:xfrm>
            <a:off x="698400" y="393840"/>
            <a:ext cx="1533600" cy="1218960"/>
          </a:xfrm>
          <a:custGeom>
            <a:avLst/>
            <a:gdLst/>
            <a:ahLst/>
            <a:rect l="l" t="t" r="r" b="b"/>
            <a:pathLst>
              <a:path w="1533833" h="1219200">
                <a:moveTo>
                  <a:pt x="1533833" y="9833"/>
                </a:moveTo>
                <a:lnTo>
                  <a:pt x="58994" y="1219200"/>
                </a:lnTo>
                <a:lnTo>
                  <a:pt x="0" y="0"/>
                </a:lnTo>
                <a:lnTo>
                  <a:pt x="1533833" y="9833"/>
                </a:lnTo>
                <a:close/>
              </a:path>
            </a:pathLst>
          </a:cu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任意多边形 9"/>
          <p:cNvSpPr/>
          <p:nvPr/>
        </p:nvSpPr>
        <p:spPr>
          <a:xfrm rot="10800000">
            <a:off x="10258200" y="5439960"/>
            <a:ext cx="1533240" cy="1219320"/>
          </a:xfrm>
          <a:custGeom>
            <a:avLst/>
            <a:gdLst/>
            <a:ahLst/>
            <a:rect l="l" t="t" r="r" b="b"/>
            <a:pathLst>
              <a:path w="1533833" h="1219200">
                <a:moveTo>
                  <a:pt x="1533833" y="9833"/>
                </a:moveTo>
                <a:lnTo>
                  <a:pt x="58994" y="1219200"/>
                </a:lnTo>
                <a:lnTo>
                  <a:pt x="0" y="0"/>
                </a:lnTo>
                <a:lnTo>
                  <a:pt x="1533833" y="983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3FCC-6233-49F8-85A5-628EFD09BC5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C111-D48C-4EEF-8E6A-0C629AF4DA0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D910-2241-421A-A512-C6C01925EC4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30D9-F6F0-48D1-B045-C3FF8F41A0A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260C-3633-495C-81FE-B72DB37367E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193F-86BE-4122-9F59-85D9B5AEFF1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AA99-5A90-4B0D-A36F-67EB5E11135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9482-7A77-42DB-AF34-F6BB9AA588A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B8DB-5A10-4BB8-9520-337EB7E931B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5B93-0D43-4E8C-B2EF-371A2847B5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F470-B138-42E8-AB1D-819394536B9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749D-BC6E-43FA-A035-226F0B0FFA3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CA28-49C1-4E79-8E8B-BF20E23C2FC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9027-C668-4C4B-BDEB-8AE0C90DD66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5081-FEC5-4F65-99C3-19D44A29C48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0F47-D263-4262-940C-0404488D050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8972-C504-463A-B4A7-303D1B36597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6B0A-0975-4590-98E8-AABA1EA2ECB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DD0B-7D5B-435A-8702-B63C7639AEC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E037-98E4-4E7A-8629-98E66476851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9F7C-8E8F-4643-9568-1DCB469194C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0AAE-3CDB-49C0-AFDE-DCC6B1FDF89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5E65-6A7E-41EE-BD12-818C2BB15F3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5064-754C-46A0-8416-7940B246CDC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任意多边形 9"/>
          <p:cNvSpPr/>
          <p:nvPr/>
        </p:nvSpPr>
        <p:spPr>
          <a:xfrm rot="10800000">
            <a:off x="10258200" y="5439960"/>
            <a:ext cx="1533240" cy="1219320"/>
          </a:xfrm>
          <a:custGeom>
            <a:avLst/>
            <a:gdLst/>
            <a:ahLst/>
            <a:rect l="l" t="t" r="r" b="b"/>
            <a:pathLst>
              <a:path w="1533833" h="1219200">
                <a:moveTo>
                  <a:pt x="1533833" y="9833"/>
                </a:moveTo>
                <a:lnTo>
                  <a:pt x="58994" y="1219200"/>
                </a:lnTo>
                <a:lnTo>
                  <a:pt x="0" y="0"/>
                </a:lnTo>
                <a:lnTo>
                  <a:pt x="1533833" y="983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直接连接符 11"/>
          <p:cNvSpPr/>
          <p:nvPr/>
        </p:nvSpPr>
        <p:spPr>
          <a:xfrm>
            <a:off x="3230640" y="2070000"/>
            <a:ext cx="6162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文本框 12"/>
          <p:cNvSpPr/>
          <p:nvPr/>
        </p:nvSpPr>
        <p:spPr>
          <a:xfrm>
            <a:off x="3230640" y="2109960"/>
            <a:ext cx="610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接连接符 14"/>
          <p:cNvSpPr/>
          <p:nvPr/>
        </p:nvSpPr>
        <p:spPr>
          <a:xfrm>
            <a:off x="3230640" y="4373640"/>
            <a:ext cx="61624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15"/>
          <p:cNvSpPr/>
          <p:nvPr/>
        </p:nvSpPr>
        <p:spPr>
          <a:xfrm>
            <a:off x="4998960" y="3430440"/>
            <a:ext cx="26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作者名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16"/>
          <p:cNvSpPr/>
          <p:nvPr/>
        </p:nvSpPr>
        <p:spPr>
          <a:xfrm>
            <a:off x="5211720" y="3838680"/>
            <a:ext cx="1947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9216-5FBF-46B3-ACCB-FC1E2101A57F}" type="datetime"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9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17"/>
          <p:cNvSpPr/>
          <p:nvPr/>
        </p:nvSpPr>
        <p:spPr>
          <a:xfrm>
            <a:off x="5810400" y="5057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同心圆 18"/>
          <p:cNvSpPr/>
          <p:nvPr/>
        </p:nvSpPr>
        <p:spPr>
          <a:xfrm>
            <a:off x="5754600" y="4756320"/>
            <a:ext cx="984240" cy="985680"/>
          </a:xfrm>
          <a:custGeom>
            <a:avLst/>
            <a:gdLst/>
            <a:ahLst/>
            <a:rect l="l" t="t" r="r" b="b"/>
            <a:pathLst>
              <a:path w="985586" h="985586">
                <a:moveTo>
                  <a:pt x="0" y="492793"/>
                </a:moveTo>
                <a:cubicBezTo>
                  <a:pt x="0" y="220631"/>
                  <a:pt x="220631" y="0"/>
                  <a:pt x="492793" y="0"/>
                </a:cubicBezTo>
                <a:cubicBezTo>
                  <a:pt x="764955" y="0"/>
                  <a:pt x="985586" y="220631"/>
                  <a:pt x="985586" y="492793"/>
                </a:cubicBezTo>
                <a:cubicBezTo>
                  <a:pt x="985586" y="764955"/>
                  <a:pt x="764955" y="985586"/>
                  <a:pt x="492793" y="985586"/>
                </a:cubicBezTo>
                <a:cubicBezTo>
                  <a:pt x="220631" y="985586"/>
                  <a:pt x="0" y="764955"/>
                  <a:pt x="0" y="492793"/>
                </a:cubicBezTo>
                <a:close/>
                <a:moveTo>
                  <a:pt x="0" y="492793"/>
                </a:moveTo>
                <a:cubicBezTo>
                  <a:pt x="0" y="764955"/>
                  <a:pt x="220631" y="985586"/>
                  <a:pt x="492793" y="985586"/>
                </a:cubicBezTo>
                <a:cubicBezTo>
                  <a:pt x="764955" y="985586"/>
                  <a:pt x="985586" y="764955"/>
                  <a:pt x="985586" y="492793"/>
                </a:cubicBezTo>
                <a:cubicBezTo>
                  <a:pt x="985586" y="220631"/>
                  <a:pt x="764955" y="0"/>
                  <a:pt x="492793" y="0"/>
                </a:cubicBezTo>
                <a:cubicBezTo>
                  <a:pt x="220631" y="0"/>
                  <a:pt x="0" y="220631"/>
                  <a:pt x="0" y="492793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文本框 2"/>
          <p:cNvSpPr/>
          <p:nvPr/>
        </p:nvSpPr>
        <p:spPr>
          <a:xfrm>
            <a:off x="5533920" y="138924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4"/>
          <p:cNvSpPr/>
          <p:nvPr/>
        </p:nvSpPr>
        <p:spPr>
          <a:xfrm>
            <a:off x="6032520" y="2244600"/>
            <a:ext cx="0" cy="319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直接连接符 19"/>
          <p:cNvSpPr/>
          <p:nvPr/>
        </p:nvSpPr>
        <p:spPr>
          <a:xfrm>
            <a:off x="6168960" y="2244600"/>
            <a:ext cx="0" cy="319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20"/>
          <p:cNvSpPr/>
          <p:nvPr/>
        </p:nvSpPr>
        <p:spPr>
          <a:xfrm>
            <a:off x="6662880" y="2482920"/>
            <a:ext cx="19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文本框 27"/>
          <p:cNvSpPr/>
          <p:nvPr/>
        </p:nvSpPr>
        <p:spPr>
          <a:xfrm>
            <a:off x="6662880" y="3529080"/>
            <a:ext cx="19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28"/>
          <p:cNvSpPr/>
          <p:nvPr/>
        </p:nvSpPr>
        <p:spPr>
          <a:xfrm>
            <a:off x="6662880" y="4672080"/>
            <a:ext cx="19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等腰三角形 7"/>
          <p:cNvSpPr/>
          <p:nvPr/>
        </p:nvSpPr>
        <p:spPr>
          <a:xfrm rot="5400000">
            <a:off x="6202080" y="2554200"/>
            <a:ext cx="311400" cy="257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等腰三角形 29"/>
          <p:cNvSpPr/>
          <p:nvPr/>
        </p:nvSpPr>
        <p:spPr>
          <a:xfrm rot="5400000">
            <a:off x="6201360" y="3609000"/>
            <a:ext cx="312840" cy="257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等腰三角形 30"/>
          <p:cNvSpPr/>
          <p:nvPr/>
        </p:nvSpPr>
        <p:spPr>
          <a:xfrm rot="5400000">
            <a:off x="6202080" y="4743360"/>
            <a:ext cx="311400" cy="257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31"/>
          <p:cNvSpPr/>
          <p:nvPr/>
        </p:nvSpPr>
        <p:spPr>
          <a:xfrm>
            <a:off x="3568680" y="29941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32"/>
          <p:cNvSpPr/>
          <p:nvPr/>
        </p:nvSpPr>
        <p:spPr>
          <a:xfrm>
            <a:off x="3568680" y="41497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等腰三角形 33"/>
          <p:cNvSpPr/>
          <p:nvPr/>
        </p:nvSpPr>
        <p:spPr>
          <a:xfrm rot="16200000">
            <a:off x="5671080" y="3078360"/>
            <a:ext cx="312840" cy="257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等腰三角形 34"/>
          <p:cNvSpPr/>
          <p:nvPr/>
        </p:nvSpPr>
        <p:spPr>
          <a:xfrm rot="16200000">
            <a:off x="5674320" y="4219920"/>
            <a:ext cx="312840" cy="257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剪去对角的矩形 2"/>
          <p:cNvSpPr/>
          <p:nvPr/>
        </p:nvSpPr>
        <p:spPr>
          <a:xfrm flipH="1">
            <a:off x="2091600" y="2712960"/>
            <a:ext cx="8379000" cy="2560680"/>
          </a:xfrm>
          <a:custGeom>
            <a:avLst/>
            <a:gdLst/>
            <a:ahLst/>
            <a:rect l="l" t="t" r="r" b="b"/>
            <a:pathLst>
              <a:path w="8381425" h="2561805">
                <a:moveTo>
                  <a:pt x="0" y="0"/>
                </a:moveTo>
                <a:lnTo>
                  <a:pt x="7969820" y="0"/>
                </a:lnTo>
                <a:lnTo>
                  <a:pt x="8381425" y="411605"/>
                </a:lnTo>
                <a:lnTo>
                  <a:pt x="8381425" y="2561805"/>
                </a:lnTo>
                <a:lnTo>
                  <a:pt x="411605" y="2561805"/>
                </a:lnTo>
                <a:lnTo>
                  <a:pt x="0" y="21502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38"/>
          <p:cNvSpPr/>
          <p:nvPr/>
        </p:nvSpPr>
        <p:spPr>
          <a:xfrm>
            <a:off x="3105000" y="2962440"/>
            <a:ext cx="612792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17"/>
          <p:cNvSpPr/>
          <p:nvPr/>
        </p:nvSpPr>
        <p:spPr>
          <a:xfrm>
            <a:off x="3360600" y="1735200"/>
            <a:ext cx="58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可长可短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圆角矩形 3"/>
          <p:cNvSpPr/>
          <p:nvPr/>
        </p:nvSpPr>
        <p:spPr>
          <a:xfrm>
            <a:off x="2946240" y="2174760"/>
            <a:ext cx="1263960" cy="1309680"/>
          </a:xfrm>
          <a:custGeom>
            <a:avLst/>
            <a:gdLst>
              <a:gd name="textAreaLeft" fmla="*/ 51120 w 1263960"/>
              <a:gd name="textAreaRight" fmla="*/ 1212840 w 1263960"/>
              <a:gd name="textAreaTop" fmla="*/ 51120 h 1309680"/>
              <a:gd name="textAreaBottom" fmla="*/ 1258560 h 1309680"/>
            </a:gdLst>
            <a:ahLst/>
            <a:rect l="textAreaLeft" t="textAreaTop" r="textAreaRight" b="textAreaBottom"/>
            <a:pathLst>
              <a:path w="21600" h="22381">
                <a:moveTo>
                  <a:pt x="2991" y="0"/>
                </a:moveTo>
                <a:arcTo wR="2991" hR="2991" stAng="16200000" swAng="-5400000"/>
                <a:lnTo>
                  <a:pt x="0" y="19390"/>
                </a:lnTo>
                <a:arcTo wR="2991" hR="2991" stAng="10800000" swAng="-5400000"/>
                <a:lnTo>
                  <a:pt x="18609" y="22381"/>
                </a:lnTo>
                <a:arcTo wR="2991" hR="2991" stAng="5400000" swAng="-5400000"/>
                <a:lnTo>
                  <a:pt x="21600" y="2991"/>
                </a:lnTo>
                <a:arcTo wR="2991" hR="2991" stAng="0" swAng="-5400000"/>
                <a:close/>
              </a:path>
            </a:pathLst>
          </a:cu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图片 10" descr=""/>
          <p:cNvPicPr/>
          <p:nvPr/>
        </p:nvPicPr>
        <p:blipFill>
          <a:blip r:embed="rId1"/>
          <a:stretch/>
        </p:blipFill>
        <p:spPr>
          <a:xfrm>
            <a:off x="3144960" y="240660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11" descr=""/>
          <p:cNvPicPr/>
          <p:nvPr/>
        </p:nvPicPr>
        <p:blipFill>
          <a:blip r:embed="rId2"/>
          <a:stretch/>
        </p:blipFill>
        <p:spPr>
          <a:xfrm>
            <a:off x="5705640" y="2406600"/>
            <a:ext cx="866520" cy="86508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2" descr=""/>
          <p:cNvPicPr/>
          <p:nvPr/>
        </p:nvPicPr>
        <p:blipFill>
          <a:blip r:embed="rId3"/>
          <a:stretch/>
        </p:blipFill>
        <p:spPr>
          <a:xfrm>
            <a:off x="8263080" y="239400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560" name="矩形 13"/>
          <p:cNvSpPr/>
          <p:nvPr/>
        </p:nvSpPr>
        <p:spPr>
          <a:xfrm>
            <a:off x="2643120" y="3862440"/>
            <a:ext cx="177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圆角矩形 26"/>
          <p:cNvSpPr/>
          <p:nvPr/>
        </p:nvSpPr>
        <p:spPr>
          <a:xfrm>
            <a:off x="5478480" y="2174760"/>
            <a:ext cx="1263600" cy="1309680"/>
          </a:xfrm>
          <a:custGeom>
            <a:avLst/>
            <a:gdLst>
              <a:gd name="textAreaLeft" fmla="*/ 51120 w 1263600"/>
              <a:gd name="textAreaRight" fmla="*/ 1212480 w 1263600"/>
              <a:gd name="textAreaTop" fmla="*/ 51120 h 1309680"/>
              <a:gd name="textAreaBottom" fmla="*/ 1258560 h 1309680"/>
            </a:gdLst>
            <a:ahLst/>
            <a:rect l="textAreaLeft" t="textAreaTop" r="textAreaRight" b="textAreaBottom"/>
            <a:pathLst>
              <a:path w="21600" h="22387">
                <a:moveTo>
                  <a:pt x="2991" y="0"/>
                </a:moveTo>
                <a:arcTo wR="2991" hR="2991" stAng="16200000" swAng="-5400000"/>
                <a:lnTo>
                  <a:pt x="0" y="19396"/>
                </a:lnTo>
                <a:arcTo wR="2991" hR="2991" stAng="10800000" swAng="-5400000"/>
                <a:lnTo>
                  <a:pt x="18609" y="22387"/>
                </a:lnTo>
                <a:arcTo wR="2991" hR="2991" stAng="5400000" swAng="-5400000"/>
                <a:lnTo>
                  <a:pt x="21600" y="2991"/>
                </a:lnTo>
                <a:arcTo wR="2991" hR="2991" stAng="0" swAng="-5400000"/>
                <a:close/>
              </a:path>
            </a:pathLst>
          </a:cu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圆角矩形 36"/>
          <p:cNvSpPr/>
          <p:nvPr/>
        </p:nvSpPr>
        <p:spPr>
          <a:xfrm>
            <a:off x="8083440" y="2174760"/>
            <a:ext cx="1265400" cy="1309680"/>
          </a:xfrm>
          <a:custGeom>
            <a:avLst/>
            <a:gdLst>
              <a:gd name="textAreaLeft" fmla="*/ 51120 w 1265400"/>
              <a:gd name="textAreaRight" fmla="*/ 1214280 w 1265400"/>
              <a:gd name="textAreaTop" fmla="*/ 51120 h 1309680"/>
              <a:gd name="textAreaBottom" fmla="*/ 1258560 h 1309680"/>
            </a:gdLst>
            <a:ahLst/>
            <a:rect l="textAreaLeft" t="textAreaTop" r="textAreaRight" b="textAreaBottom"/>
            <a:pathLst>
              <a:path w="21600" h="22356">
                <a:moveTo>
                  <a:pt x="2991" y="0"/>
                </a:moveTo>
                <a:arcTo wR="2991" hR="2991" stAng="16200000" swAng="-5400000"/>
                <a:lnTo>
                  <a:pt x="0" y="19365"/>
                </a:lnTo>
                <a:arcTo wR="2991" hR="2991" stAng="10800000" swAng="-5400000"/>
                <a:lnTo>
                  <a:pt x="18609" y="22356"/>
                </a:lnTo>
                <a:arcTo wR="2991" hR="2991" stAng="5400000" swAng="-5400000"/>
                <a:lnTo>
                  <a:pt x="21600" y="2991"/>
                </a:lnTo>
                <a:arcTo wR="2991" hR="2991" stAng="0" swAng="-5400000"/>
                <a:close/>
              </a:path>
            </a:pathLst>
          </a:cu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38"/>
          <p:cNvSpPr/>
          <p:nvPr/>
        </p:nvSpPr>
        <p:spPr>
          <a:xfrm>
            <a:off x="5222880" y="3862440"/>
            <a:ext cx="177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39"/>
          <p:cNvSpPr/>
          <p:nvPr/>
        </p:nvSpPr>
        <p:spPr>
          <a:xfrm>
            <a:off x="7842240" y="3862440"/>
            <a:ext cx="177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文本框 2"/>
          <p:cNvSpPr/>
          <p:nvPr/>
        </p:nvSpPr>
        <p:spPr>
          <a:xfrm>
            <a:off x="5024520" y="2774880"/>
            <a:ext cx="229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6" name="Group 3"/>
          <p:cNvGrpSpPr/>
          <p:nvPr/>
        </p:nvGrpSpPr>
        <p:grpSpPr>
          <a:xfrm>
            <a:off x="6323040" y="3549600"/>
            <a:ext cx="1376280" cy="177840"/>
            <a:chOff x="6323040" y="3549600"/>
            <a:chExt cx="1376280" cy="177840"/>
          </a:xfrm>
        </p:grpSpPr>
        <p:sp>
          <p:nvSpPr>
            <p:cNvPr id="567" name="直接连接符 7"/>
            <p:cNvSpPr/>
            <p:nvPr/>
          </p:nvSpPr>
          <p:spPr>
            <a:xfrm>
              <a:off x="6411960" y="3638520"/>
              <a:ext cx="128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椭圆 15"/>
            <p:cNvSpPr/>
            <p:nvPr/>
          </p:nvSpPr>
          <p:spPr>
            <a:xfrm>
              <a:off x="6323040" y="3549600"/>
              <a:ext cx="177840" cy="177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Group 6"/>
          <p:cNvGrpSpPr/>
          <p:nvPr/>
        </p:nvGrpSpPr>
        <p:grpSpPr>
          <a:xfrm>
            <a:off x="4609800" y="2620800"/>
            <a:ext cx="1376280" cy="177840"/>
            <a:chOff x="4609800" y="2620800"/>
            <a:chExt cx="1376280" cy="177840"/>
          </a:xfrm>
        </p:grpSpPr>
        <p:sp>
          <p:nvSpPr>
            <p:cNvPr id="570" name="直接连接符 20"/>
            <p:cNvSpPr/>
            <p:nvPr/>
          </p:nvSpPr>
          <p:spPr>
            <a:xfrm flipH="1">
              <a:off x="4609800" y="2709720"/>
              <a:ext cx="128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椭圆 21"/>
            <p:cNvSpPr/>
            <p:nvPr/>
          </p:nvSpPr>
          <p:spPr>
            <a:xfrm flipH="1">
              <a:off x="5808240" y="2620800"/>
              <a:ext cx="177840" cy="177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2" name="文本框 24"/>
          <p:cNvSpPr/>
          <p:nvPr/>
        </p:nvSpPr>
        <p:spPr>
          <a:xfrm>
            <a:off x="5378400" y="4245120"/>
            <a:ext cx="1870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FAF9-9D9C-4C85-AAE8-F1FEE66850BD}" type="datetime"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9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74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08:24:58Z</dcterms:created>
  <dc:creator>D13001</dc:creator>
  <dc:description/>
  <cp:keywords/>
  <dc:language>en-US</dc:language>
  <cp:lastModifiedBy>a</cp:lastModifiedBy>
  <dcterms:modified xsi:type="dcterms:W3CDTF">2014-05-24T09:36:38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