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07D-CA2B-42F0-AB6D-74DA1D15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C60-BC6B-4339-BB2E-EDFE5C9D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4BC-E50C-4C40-97B2-56BE6BBF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B15-C04F-4F81-8ED3-D4FE0F50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C1F-4C39-4C49-B26F-6FA14814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03C-1E4E-4452-B193-BA135FC5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38A-7097-4AE1-9DEB-E681414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6D0-A6BE-4548-8D4A-9FBFB7FB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E97-81DC-4AC5-BEC0-AB0B1DA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9BA-D41A-4CDF-9F26-D8D3881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317-7619-457F-9461-8E48B0DB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CA5-DFDA-4AA8-BE7C-BD84F88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389800" y="6670800"/>
            <a:ext cx="755640" cy="185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5CA6-74F9-4868-BB15-A5E732122EE1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79280" y="615960"/>
            <a:ext cx="8785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漫天钞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金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02:28Z</dcterms:created>
  <dc:creator>Mariajose</dc:creator>
  <dc:description/>
  <dc:language>en-US</dc:language>
  <cp:lastModifiedBy>a</cp:lastModifiedBy>
  <dcterms:modified xsi:type="dcterms:W3CDTF">2014-12-31T04:41:55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