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B18-75E3-4722-9DEB-3074DA92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F6B-37AA-4778-BD35-0645076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667-30B8-40D2-A7EF-5E5B0530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F80-5130-415F-8AB7-031EAE19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E9B-44DA-4F5F-AFE9-BE05F13C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D499-CF71-43C2-A0A1-5FD7BF7F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053-632B-49A2-8B65-1AA95F7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B0A-9B76-4850-86BD-198653D6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DFF4-C94D-4CA7-BF4B-DB09E90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DE5-6B0E-4F03-9C2B-0CD4B30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9DB-959C-4FC7-95DC-57DCDEB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73F-911E-4E1A-8BF2-7D010F62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C14F-5008-4D58-8A04-17B8E10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9CF0-470B-4F39-9750-F80710E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195E-B802-4754-8887-7963FD3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7C90-DA74-4555-B90B-0302D10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9F5E-BEE4-450F-B70D-6AB7EE28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C527-BEB0-4940-A5EF-9CB56231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5F20-48E4-4299-8564-1087D2E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2929-81E6-426A-AD1C-26DF4FE1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7B9C-CC86-4D20-9326-FFE105FC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936C-1527-4B89-93B6-1430EEC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FD3-9183-431D-B86D-112B5BD9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6DE8-7308-4C08-91E7-AC1FA896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5F9B-B7F8-4D40-AC77-11618BBE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6150-53BE-49F8-A6C0-4A3F910E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D82E-FACC-4A79-AB14-D4D7F4D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3394-C0CC-47DF-8084-B3D1B49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863A-E4FD-4A12-87D3-170FC14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AF3B-29DB-412D-8E3A-0F2EE520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044C-79A6-4E7F-B881-9032D12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68A1-5930-497E-8CEC-CD7C1FF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28D3-AC0D-4720-800C-E99376D0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CDE-74F7-4F62-97FB-0D47E11E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AF1D-6EB4-46C8-A9D0-625BCC94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32FB-461E-4040-998E-B00692E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5E75-A02D-4B9B-BEBB-4B2FB31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7F22-343B-4812-9A06-D5A87D8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4991D-0330-4E95-BE87-45D8A53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E40B-8745-4DB5-ADFC-0A5F949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9191-84F1-49EC-9704-252D18A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9EB6-083D-4BD5-9C5D-391E15E8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7EFE-FA8C-414B-B563-036E9A32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AC3-D0CA-47A3-AC5E-A719CE3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DD5-404C-465D-85D7-8104FE7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6B8-A252-4637-88FA-16A990F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7FD-7296-495A-8A60-4556F3B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3AC-1D4B-48D1-8E82-F7348FE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162D-BB67-4897-BF20-8FE9ECEAA0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20090129_9472279700e5230fc3f5FdDNCwuZnWmG"/>
          <p:cNvPicPr/>
          <p:nvPr/>
        </p:nvPicPr>
        <p:blipFill>
          <a:blip r:embed="rId3"/>
          <a:stretch/>
        </p:blipFill>
        <p:spPr>
          <a:xfrm>
            <a:off x="11160" y="547704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椭圆 15" descr=""/>
          <p:cNvPicPr/>
          <p:nvPr/>
        </p:nvPicPr>
        <p:blipFill>
          <a:blip r:embed="rId4"/>
          <a:stretch/>
        </p:blipFill>
        <p:spPr>
          <a:xfrm>
            <a:off x="2303640" y="1922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椭圆 15" descr=""/>
          <p:cNvPicPr/>
          <p:nvPr/>
        </p:nvPicPr>
        <p:blipFill>
          <a:blip r:embed="rId5"/>
          <a:stretch/>
        </p:blipFill>
        <p:spPr>
          <a:xfrm>
            <a:off x="6926400" y="77616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8" name="椭圆 15" descr=""/>
          <p:cNvPicPr/>
          <p:nvPr/>
        </p:nvPicPr>
        <p:blipFill>
          <a:blip r:embed="rId6"/>
          <a:stretch/>
        </p:blipFill>
        <p:spPr>
          <a:xfrm>
            <a:off x="1933560" y="8301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9" name="椭圆 15" descr=""/>
          <p:cNvPicPr/>
          <p:nvPr/>
        </p:nvPicPr>
        <p:blipFill>
          <a:blip r:embed="rId7"/>
          <a:stretch/>
        </p:blipFill>
        <p:spPr>
          <a:xfrm>
            <a:off x="6586560" y="55440"/>
            <a:ext cx="522360" cy="522360"/>
          </a:xfrm>
          <a:prstGeom prst="rect">
            <a:avLst/>
          </a:prstGeom>
          <a:ln w="0">
            <a:noFill/>
          </a:ln>
        </p:spPr>
      </p:pic>
      <p:pic>
        <p:nvPicPr>
          <p:cNvPr id="10" name="椭圆 15" descr=""/>
          <p:cNvPicPr/>
          <p:nvPr/>
        </p:nvPicPr>
        <p:blipFill>
          <a:blip r:embed="rId8"/>
          <a:stretch/>
        </p:blipFill>
        <p:spPr>
          <a:xfrm>
            <a:off x="5200560" y="1289160"/>
            <a:ext cx="271440" cy="269640"/>
          </a:xfrm>
          <a:prstGeom prst="rect">
            <a:avLst/>
          </a:prstGeom>
          <a:ln w="0">
            <a:noFill/>
          </a:ln>
        </p:spPr>
      </p:pic>
      <p:pic>
        <p:nvPicPr>
          <p:cNvPr id="11" name="椭圆 15" descr=""/>
          <p:cNvPicPr/>
          <p:nvPr/>
        </p:nvPicPr>
        <p:blipFill>
          <a:blip r:embed="rId9"/>
          <a:stretch/>
        </p:blipFill>
        <p:spPr>
          <a:xfrm>
            <a:off x="3517920" y="8478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12" name="椭圆 15" descr=""/>
          <p:cNvPicPr/>
          <p:nvPr/>
        </p:nvPicPr>
        <p:blipFill>
          <a:blip r:embed="rId10"/>
          <a:stretch/>
        </p:blipFill>
        <p:spPr>
          <a:xfrm>
            <a:off x="5362560" y="73080"/>
            <a:ext cx="3081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06A-6395-410F-9E9B-1972722CF49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5204160" y="2872080"/>
            <a:ext cx="1874160" cy="1872360"/>
            <a:chOff x="5204160" y="2872080"/>
            <a:chExt cx="1874160" cy="1872360"/>
          </a:xfrm>
        </p:grpSpPr>
        <p:sp>
          <p:nvSpPr>
            <p:cNvPr id="55" name="Oval 8"/>
            <p:cNvSpPr/>
            <p:nvPr/>
          </p:nvSpPr>
          <p:spPr>
            <a:xfrm rot="600000">
              <a:off x="5332320" y="3000240"/>
              <a:ext cx="1617840" cy="1616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 rot="600000">
              <a:off x="5894280" y="3537000"/>
              <a:ext cx="507240" cy="50688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0"/>
          <p:cNvGrpSpPr/>
          <p:nvPr/>
        </p:nvGrpSpPr>
        <p:grpSpPr>
          <a:xfrm>
            <a:off x="6828120" y="2610720"/>
            <a:ext cx="794160" cy="794160"/>
            <a:chOff x="6828120" y="2610720"/>
            <a:chExt cx="794160" cy="794160"/>
          </a:xfrm>
        </p:grpSpPr>
        <p:sp>
          <p:nvSpPr>
            <p:cNvPr id="58" name="Oval 11"/>
            <p:cNvSpPr/>
            <p:nvPr/>
          </p:nvSpPr>
          <p:spPr>
            <a:xfrm rot="780000">
              <a:off x="6894000" y="2676600"/>
              <a:ext cx="662040" cy="662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rot="780000">
              <a:off x="7124400" y="2896560"/>
              <a:ext cx="207720" cy="2077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6983280" y="3607200"/>
            <a:ext cx="1398240" cy="1398240"/>
            <a:chOff x="6983280" y="3607200"/>
            <a:chExt cx="1398240" cy="1398240"/>
          </a:xfrm>
        </p:grpSpPr>
        <p:sp>
          <p:nvSpPr>
            <p:cNvPr id="61" name="Oval 14"/>
            <p:cNvSpPr/>
            <p:nvPr/>
          </p:nvSpPr>
          <p:spPr>
            <a:xfrm rot="2760000">
              <a:off x="7187760" y="3811680"/>
              <a:ext cx="988920" cy="98892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 rot="2760000">
              <a:off x="7536960" y="4144680"/>
              <a:ext cx="309960" cy="3103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4580280" y="3478680"/>
            <a:ext cx="569160" cy="567720"/>
            <a:chOff x="4580280" y="3478680"/>
            <a:chExt cx="569160" cy="567720"/>
          </a:xfrm>
        </p:grpSpPr>
        <p:sp>
          <p:nvSpPr>
            <p:cNvPr id="64" name="Oval 17"/>
            <p:cNvSpPr/>
            <p:nvPr/>
          </p:nvSpPr>
          <p:spPr>
            <a:xfrm rot="780000">
              <a:off x="4627440" y="3525840"/>
              <a:ext cx="474840" cy="473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 rot="780000">
              <a:off x="4792320" y="3683160"/>
              <a:ext cx="14904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6457320" y="2144160"/>
            <a:ext cx="443880" cy="443880"/>
            <a:chOff x="6457320" y="2144160"/>
            <a:chExt cx="443880" cy="443880"/>
          </a:xfrm>
        </p:grpSpPr>
        <p:sp>
          <p:nvSpPr>
            <p:cNvPr id="67" name="Oval 20"/>
            <p:cNvSpPr/>
            <p:nvPr/>
          </p:nvSpPr>
          <p:spPr>
            <a:xfrm rot="1920000">
              <a:off x="6517800" y="2205000"/>
              <a:ext cx="322200" cy="32220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 rot="1920000">
              <a:off x="6630840" y="2313000"/>
              <a:ext cx="101160" cy="10116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2" descr=""/>
          <p:cNvPicPr/>
          <p:nvPr/>
        </p:nvPicPr>
        <p:blipFill>
          <a:blip r:embed="rId3"/>
          <a:stretch/>
        </p:blipFill>
        <p:spPr>
          <a:xfrm>
            <a:off x="6880320" y="4157640"/>
            <a:ext cx="482400" cy="39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"/>
          <p:cNvPicPr/>
          <p:nvPr/>
        </p:nvPicPr>
        <p:blipFill>
          <a:blip r:embed="rId4"/>
          <a:stretch/>
        </p:blipFill>
        <p:spPr>
          <a:xfrm flipH="1">
            <a:off x="1346040" y="2773440"/>
            <a:ext cx="417600" cy="34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20090129_9472279700e5230fc3f5FdDNCwuZnWmG"/>
          <p:cNvPicPr/>
          <p:nvPr/>
        </p:nvPicPr>
        <p:blipFill>
          <a:blip r:embed="rId5"/>
          <a:stretch/>
        </p:blipFill>
        <p:spPr>
          <a:xfrm>
            <a:off x="11160" y="4683240"/>
            <a:ext cx="2239920" cy="21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D30-5F28-4020-A40A-D5C061D06F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DD9-D413-4282-B354-A96C448F0B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椭圆 15" descr=""/>
          <p:cNvPicPr/>
          <p:nvPr/>
        </p:nvPicPr>
        <p:blipFill>
          <a:blip r:embed="rId3"/>
          <a:stretch/>
        </p:blipFill>
        <p:spPr>
          <a:xfrm>
            <a:off x="2303640" y="1922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50" name="椭圆 15" descr=""/>
          <p:cNvPicPr/>
          <p:nvPr/>
        </p:nvPicPr>
        <p:blipFill>
          <a:blip r:embed="rId4"/>
          <a:stretch/>
        </p:blipFill>
        <p:spPr>
          <a:xfrm>
            <a:off x="6926400" y="77616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51" name="椭圆 15" descr=""/>
          <p:cNvPicPr/>
          <p:nvPr/>
        </p:nvPicPr>
        <p:blipFill>
          <a:blip r:embed="rId5"/>
          <a:stretch/>
        </p:blipFill>
        <p:spPr>
          <a:xfrm>
            <a:off x="1933560" y="8301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椭圆 15" descr=""/>
          <p:cNvPicPr/>
          <p:nvPr/>
        </p:nvPicPr>
        <p:blipFill>
          <a:blip r:embed="rId6"/>
          <a:stretch/>
        </p:blipFill>
        <p:spPr>
          <a:xfrm>
            <a:off x="6586560" y="55440"/>
            <a:ext cx="522360" cy="522360"/>
          </a:xfrm>
          <a:prstGeom prst="rect">
            <a:avLst/>
          </a:prstGeom>
          <a:ln w="0">
            <a:noFill/>
          </a:ln>
        </p:spPr>
      </p:pic>
      <p:pic>
        <p:nvPicPr>
          <p:cNvPr id="153" name="椭圆 15" descr=""/>
          <p:cNvPicPr/>
          <p:nvPr/>
        </p:nvPicPr>
        <p:blipFill>
          <a:blip r:embed="rId7"/>
          <a:stretch/>
        </p:blipFill>
        <p:spPr>
          <a:xfrm>
            <a:off x="5200560" y="1289160"/>
            <a:ext cx="271440" cy="269640"/>
          </a:xfrm>
          <a:prstGeom prst="rect">
            <a:avLst/>
          </a:prstGeom>
          <a:ln w="0">
            <a:noFill/>
          </a:ln>
        </p:spPr>
      </p:pic>
      <p:pic>
        <p:nvPicPr>
          <p:cNvPr id="154" name="椭圆 15" descr=""/>
          <p:cNvPicPr/>
          <p:nvPr/>
        </p:nvPicPr>
        <p:blipFill>
          <a:blip r:embed="rId8"/>
          <a:stretch/>
        </p:blipFill>
        <p:spPr>
          <a:xfrm>
            <a:off x="3517920" y="8478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155" name="椭圆 15" descr=""/>
          <p:cNvPicPr/>
          <p:nvPr/>
        </p:nvPicPr>
        <p:blipFill>
          <a:blip r:embed="rId9"/>
          <a:stretch/>
        </p:blipFill>
        <p:spPr>
          <a:xfrm>
            <a:off x="5362560" y="73080"/>
            <a:ext cx="308160" cy="30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15"/>
          <p:cNvPicPr/>
          <p:nvPr/>
        </p:nvPicPr>
        <p:blipFill>
          <a:blip r:embed="rId10"/>
          <a:stretch/>
        </p:blipFill>
        <p:spPr>
          <a:xfrm>
            <a:off x="7113600" y="-104760"/>
            <a:ext cx="3046320" cy="29829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3"/>
          <p:cNvGrpSpPr/>
          <p:nvPr/>
        </p:nvGrpSpPr>
        <p:grpSpPr>
          <a:xfrm>
            <a:off x="5204160" y="2872080"/>
            <a:ext cx="1874160" cy="1872360"/>
            <a:chOff x="5204160" y="2872080"/>
            <a:chExt cx="1874160" cy="1872360"/>
          </a:xfrm>
        </p:grpSpPr>
        <p:sp>
          <p:nvSpPr>
            <p:cNvPr id="158" name="Oval 14"/>
            <p:cNvSpPr/>
            <p:nvPr/>
          </p:nvSpPr>
          <p:spPr>
            <a:xfrm rot="600000">
              <a:off x="5332320" y="3000240"/>
              <a:ext cx="1617840" cy="1616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 rot="600000">
              <a:off x="5894280" y="3537000"/>
              <a:ext cx="507240" cy="50688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6" descr="20090129_9472279700e5230fc3f5FdDNCwuZnWmG"/>
          <p:cNvPicPr/>
          <p:nvPr/>
        </p:nvPicPr>
        <p:blipFill>
          <a:blip r:embed="rId11"/>
          <a:stretch/>
        </p:blipFill>
        <p:spPr>
          <a:xfrm>
            <a:off x="6562800" y="4341960"/>
            <a:ext cx="2536920" cy="24526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7"/>
          <p:cNvGrpSpPr/>
          <p:nvPr/>
        </p:nvGrpSpPr>
        <p:grpSpPr>
          <a:xfrm>
            <a:off x="6828120" y="2610720"/>
            <a:ext cx="794160" cy="794160"/>
            <a:chOff x="6828120" y="2610720"/>
            <a:chExt cx="794160" cy="794160"/>
          </a:xfrm>
        </p:grpSpPr>
        <p:sp>
          <p:nvSpPr>
            <p:cNvPr id="162" name="Oval 18"/>
            <p:cNvSpPr/>
            <p:nvPr/>
          </p:nvSpPr>
          <p:spPr>
            <a:xfrm rot="780000">
              <a:off x="6894000" y="2676600"/>
              <a:ext cx="662040" cy="662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 rot="780000">
              <a:off x="7124400" y="2896560"/>
              <a:ext cx="207720" cy="2077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0"/>
          <p:cNvGrpSpPr/>
          <p:nvPr/>
        </p:nvGrpSpPr>
        <p:grpSpPr>
          <a:xfrm>
            <a:off x="6983280" y="3607200"/>
            <a:ext cx="1398240" cy="1398240"/>
            <a:chOff x="6983280" y="3607200"/>
            <a:chExt cx="1398240" cy="1398240"/>
          </a:xfrm>
        </p:grpSpPr>
        <p:sp>
          <p:nvSpPr>
            <p:cNvPr id="165" name="Oval 21"/>
            <p:cNvSpPr/>
            <p:nvPr/>
          </p:nvSpPr>
          <p:spPr>
            <a:xfrm rot="2760000">
              <a:off x="7187760" y="3811680"/>
              <a:ext cx="988920" cy="98892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 rot="2760000">
              <a:off x="7536960" y="4144680"/>
              <a:ext cx="309960" cy="3103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3"/>
          <p:cNvGrpSpPr/>
          <p:nvPr/>
        </p:nvGrpSpPr>
        <p:grpSpPr>
          <a:xfrm>
            <a:off x="4580280" y="3478680"/>
            <a:ext cx="569160" cy="567720"/>
            <a:chOff x="4580280" y="3478680"/>
            <a:chExt cx="569160" cy="567720"/>
          </a:xfrm>
        </p:grpSpPr>
        <p:sp>
          <p:nvSpPr>
            <p:cNvPr id="168" name="Oval 24"/>
            <p:cNvSpPr/>
            <p:nvPr/>
          </p:nvSpPr>
          <p:spPr>
            <a:xfrm rot="780000">
              <a:off x="4627440" y="3525840"/>
              <a:ext cx="474840" cy="473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 rot="780000">
              <a:off x="4792320" y="3683160"/>
              <a:ext cx="14904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6"/>
          <p:cNvGrpSpPr/>
          <p:nvPr/>
        </p:nvGrpSpPr>
        <p:grpSpPr>
          <a:xfrm>
            <a:off x="6457320" y="2144160"/>
            <a:ext cx="443880" cy="443880"/>
            <a:chOff x="6457320" y="2144160"/>
            <a:chExt cx="443880" cy="443880"/>
          </a:xfrm>
        </p:grpSpPr>
        <p:sp>
          <p:nvSpPr>
            <p:cNvPr id="171" name="Oval 27"/>
            <p:cNvSpPr/>
            <p:nvPr/>
          </p:nvSpPr>
          <p:spPr>
            <a:xfrm rot="1920000">
              <a:off x="6517800" y="2205000"/>
              <a:ext cx="322200" cy="32220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 rot="1920000">
              <a:off x="6630840" y="2313000"/>
              <a:ext cx="101160" cy="10116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29" descr=""/>
          <p:cNvPicPr/>
          <p:nvPr/>
        </p:nvPicPr>
        <p:blipFill>
          <a:blip r:embed="rId12"/>
          <a:stretch/>
        </p:blipFill>
        <p:spPr>
          <a:xfrm>
            <a:off x="8166240" y="4589640"/>
            <a:ext cx="484200" cy="39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"/>
          <p:cNvPicPr/>
          <p:nvPr/>
        </p:nvPicPr>
        <p:blipFill>
          <a:blip r:embed="rId13"/>
          <a:stretch/>
        </p:blipFill>
        <p:spPr>
          <a:xfrm flipH="1">
            <a:off x="6141960" y="5635800"/>
            <a:ext cx="417600" cy="342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C2BB-159C-4DDD-8EB2-C6E60146D71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69960" y="1671480"/>
            <a:ext cx="77724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牛年新春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ppt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de7bb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黑体"/>
              <a:ea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de7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extBox 3" descr=""/>
          <p:cNvPicPr/>
          <p:nvPr/>
        </p:nvPicPr>
        <p:blipFill>
          <a:blip r:embed="rId2"/>
          <a:stretch/>
        </p:blipFill>
        <p:spPr>
          <a:xfrm>
            <a:off x="1533600" y="2482920"/>
            <a:ext cx="63212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6:22:54Z</dcterms:created>
  <dc:creator/>
  <dc:description/>
  <dc:language>en-US</dc:language>
  <cp:lastModifiedBy>a</cp:lastModifiedBy>
  <dcterms:modified xsi:type="dcterms:W3CDTF">2014-12-15T17:50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