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C5F-5382-4AA6-8721-BF9B8BA4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DCC-B940-41BA-B480-847503DA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BDA-3E9F-4E3B-85F0-D9F8C9C8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676-05A5-40C5-9241-7EDD7CAB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0C17-B652-49B9-9B2B-A4D1E448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3595-0C99-46C5-BB2C-483D02D4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B1D7-EFA2-4891-82C0-EB2FBF7D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6B19-0A20-4DE7-9448-5ADFEEA2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2A56-52BC-410B-A354-CB2F890E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9257-5F35-4A51-9134-0607C78C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FD30-B516-471C-B725-C290A37F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346-B021-4F99-8352-25176A39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AEC5-4B3A-487C-9B7B-7E287BED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91DB-8345-442A-8463-ABD31BF3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5E96-9D16-4E75-AE2E-E8CD2BA8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2BC5-0552-40D5-B174-CB9E1811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2F18-44EA-4226-8A8A-F82B332E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611-A641-4FDD-A92E-99DA1E75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58B-37AD-47AE-BFD5-43DFD01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3C2-8307-478E-A13F-4E7ED380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4E8-F6B0-437B-8AC7-2CD42962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C33-D13B-4FC1-A809-B85663C7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8AB-69DE-43F4-9DEF-3918C81C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B55-84A7-4C7E-916D-B5E1F313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59F8-3AEA-404A-87F7-DBC77601907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2A5B-702D-47AE-8D6F-6FE995E0A55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469F-A573-46DA-97B8-5C4B1629E7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86080" y="2844720"/>
            <a:ext cx="4600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宋体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21240" y="3357720"/>
            <a:ext cx="347976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8226360" y="6686640"/>
            <a:ext cx="88272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714480" y="714240"/>
            <a:ext cx="4971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20:36:13Z</dcterms:created>
  <dc:creator>Admin</dc:creator>
  <dc:description/>
  <cp:keywords/>
  <dc:language>en-US</dc:language>
  <cp:lastModifiedBy>a</cp:lastModifiedBy>
  <dcterms:modified xsi:type="dcterms:W3CDTF">2014-05-24T09:36:54Z</dcterms:modified>
  <cp:revision>7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