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5280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093-12F1-46E0-B861-802A94C8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F7A-3599-4CB7-882D-BE7BFE5A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428-4DD0-4C16-BDCC-D4919E85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C75-470A-43EF-9071-78EA7D59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A74-7CA4-438D-9082-7079F9AC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3F7-BA22-4A5A-A550-F317BCBC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5FE-CB7C-4E33-8797-EABEA760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83C-2CCE-46D7-A052-0C9F5800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375-74ED-4DB2-BF81-023C3B3C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5280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3A7-258B-4FE8-864A-583CE482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325-C296-4813-B1F5-E59EC822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9BB-18B8-4CDF-AF18-2BA7D4F3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5280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40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5520" indent="-2271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68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68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68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27280"/>
            <a:ext cx="21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1B44-6AE3-41E9-9F71-6DAC77273B15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272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27280"/>
            <a:ext cx="21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4ACB-40AE-46BB-82C9-58DA9E2FACB5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9568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运动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12600" y="0"/>
            <a:ext cx="8444160" cy="6838920"/>
            <a:chOff x="12600" y="0"/>
            <a:chExt cx="8444160" cy="6838920"/>
          </a:xfrm>
        </p:grpSpPr>
        <p:sp>
          <p:nvSpPr>
            <p:cNvPr id="125" name="矩形 4"/>
            <p:cNvSpPr/>
            <p:nvPr/>
          </p:nvSpPr>
          <p:spPr>
            <a:xfrm>
              <a:off x="700560" y="0"/>
              <a:ext cx="6584400" cy="6883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2600" y="1709640"/>
              <a:ext cx="8444160" cy="51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7"/>
            <p:cNvSpPr/>
            <p:nvPr/>
          </p:nvSpPr>
          <p:spPr>
            <a:xfrm rot="20926800">
              <a:off x="1924200" y="3557520"/>
              <a:ext cx="4654800" cy="11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1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1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1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4:06:48Z</dcterms:created>
  <dc:creator>Administrator</dc:creator>
  <dc:description/>
  <dc:language>en-US</dc:language>
  <cp:lastModifiedBy>a</cp:lastModifiedBy>
  <dcterms:modified xsi:type="dcterms:W3CDTF">2014-12-15T17:46:4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