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CBA-A762-4ED6-82AF-F5FDB38C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D53-7F11-4A94-B22E-4A69A9F2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7F771-BE0D-4AEC-A204-65C74224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6628D-74F3-4B36-BA8C-94B65D03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B2EF5-64B6-4F46-B662-248A72D9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82CD7-291B-4ED0-A0F7-95D395F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52F95-2707-4F44-B532-F2BA684B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D05EE-4DD4-40A8-B743-A74E8EC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71790-B4EA-4F5F-B6E5-B693B83D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EFE57-B9A0-454E-A157-4614E2AB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3D547-E6C5-4CC5-8290-826DEBB3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FDB4C-BBA0-4206-AE89-19595A14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CC4-DAF1-40BE-B66A-F5D1AEA7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F2E59-506A-4FB9-BCC8-3A11F66C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DCE39-3C78-43A0-B4A4-B9847B7E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F972D-D78B-4232-983F-4E5A9385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FCA04-9849-4763-91C3-C26842B6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3EDE8-D597-47E5-8E97-4DF0092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5FCB4-888E-4EA6-8A53-90A491B8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4209A-A630-40D1-8E14-074380AA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2FBD4-E812-4442-AE56-5C92F9FB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8CFC8-69C8-4DC5-AF8A-2796E472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2C9F3-E18B-4A35-9337-4F909109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CE8-0ED8-4B3A-8DAC-44F3E2EB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F8AEE-61D1-4511-BE1E-C664DDC7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BF012-AB0F-41C3-85DB-AC42C0DB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D461D-B2B9-4B6C-83B4-50D3EEF1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3F898-5445-4FF7-8976-50D7F23F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C6B5F-54F7-4958-8F04-AC6281DC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2F905-AD23-44C9-93B8-EF50D2EA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6F35D-8D0C-48DE-8E58-FC7E9658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46F11-2ECC-4821-8C04-541F80E5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D4624-ACB9-4ED7-A631-706F6D69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DF065-6930-4203-B397-2B4CE38C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5122-D16F-4ACA-927F-340CEAEA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62538-0A89-4216-926F-1A83FA64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2C92C-C909-4854-BA7E-DD993783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89727-BB39-40EF-A9D4-9C9311AB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CFE40-172C-41B8-A8F3-01A220A1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1DA7F-C72D-4ADB-A00F-D3741E9D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C7814-78F2-4C2D-AA6B-BDA32ADA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1ED81-C17A-486C-BBDE-C9B0374C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344D2-CED0-4FFB-ABA7-963683E7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80745-453C-42FC-B8F5-062619D8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BD642-AE20-43BA-BACD-09359DD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BAC1-39E4-4547-89B9-52B13827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DB7A6-384F-4602-B6F8-98B2C20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E9E49-C8FE-4BEC-A1A8-16EB9E1A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DED92-CE92-43E9-8352-EB69D1B6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B1ACE-2600-4110-9293-3C46B7A2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3F046-7347-4184-AC28-7751BB85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7D47E-46DF-439C-84EB-6B8E1838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390D9-94F3-42DC-8E14-485CEDC8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8644E-E6AE-41E7-A6B5-F5DE57BA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8F6DC-AB74-4995-BD5E-D4F18AFF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6FF36-E898-4EAE-B0BC-3645BA87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3A68-D0AF-482F-AE6B-E7E01380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5A717-4D97-45CF-9F8E-F620160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BBCBC-BE02-407E-B6C2-454ABEEC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BF3B5-40E1-462D-BC2D-89C8512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1DABC-BB77-4E33-B24A-BA7E2439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48D69-1296-49F0-9E2A-B22666B4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CDEC1-C2E3-45BD-B6C9-5C54C532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BC73D-3908-42AC-BE95-8B537328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44EA0-8B99-40B9-B63D-A0A38D93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A7DE4-75E5-4C45-9A4D-6BD6BA0B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8AD19-104E-4600-8C4D-C9D14B71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7B98-E1F7-4FEC-BD05-24BEFD01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B0781-B1D1-4D9E-8557-D0CBF371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86954-92C7-4C2C-B00D-58ECB6FD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D3980-2303-4629-B172-ED3C5FC6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500AA-85DC-46D5-9E66-B6CA6DD3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9EBB3-433C-4324-AA02-1D07127F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50DB2-6420-4297-BE53-8133D50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3061C-59C5-46F8-B670-870FEFDC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E649D-EF0B-4902-A9F5-93548B31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9A05F-CB02-4C31-8FC2-733D890F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2A71-0AF2-47C9-BA60-0BB1AADC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8092-3EEE-4F28-A259-65F31A28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83DC-11C3-4A66-9368-F15CA548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D18-F840-40B4-81E3-1C39C867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C06D-A8FF-42BC-B5DD-D535F735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9BBC-13FF-4EB7-8F97-333638E7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E4EF-52EB-420F-AD23-594434A3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6571-E625-45DE-BD85-4FC4BB60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D15C-5A56-4808-A562-854D0151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89B2-A971-41F6-882A-F528F9A3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A514-C51F-4823-9D97-771449C5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8025-C0D4-4EA9-B760-C1892670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EA6C-0AE3-45B6-BCB5-DEA5A8E3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BD5D-6EDF-43A7-95FD-9EF7749F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663-991D-4170-B98C-81F027D4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431F-3DD5-4DDB-AC71-C37990B5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7D6D-A960-4020-B688-8E431B0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1EA9-973A-4D40-A474-FFEC153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A0C0-9E6E-4DD3-ACFB-F4EE049A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C79B-9437-4BAE-AFA6-CF95C448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0E2F-F384-4CD6-8975-9906AA60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82E0-1F55-45C5-AB5E-34CD646C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8D25-E667-49AE-A942-510EA7B4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EF0D-8434-4811-ADFA-50BA98BB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D45C-E8F7-466F-BE7D-563D11D1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B31-E34E-48D8-B295-952BB7E2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2524-0347-4B2F-9CAE-909F2581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3F66-6B94-4521-AA9D-24EAE8DB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D2CCD-9DAE-4D84-84B1-FBF4D5D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183E-11A9-452F-9C49-7F84BBF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202E-A717-4F41-A8F6-1BF7963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59B0B-C340-4F92-B150-DB87D3FB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A6B7-2B46-4666-8685-F4334D27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1FF0-34F9-4949-9889-124F5F15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BC38-5744-458D-B2B9-1177C0C8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ADC13-2F0E-4146-88ED-2D95EC0C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285-97F4-4744-8DCA-8D24F7B2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39F7-215E-46A7-A7BD-1E12473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6DED-CDCD-4E81-9D89-B1E1BB7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566E8-7F82-4DC7-BC34-8AC5F604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918A-6FFB-49CD-B4BB-7B0F561D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0490F-E3F0-4F1A-BE4A-C4F72367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2D8D0-0DBE-4692-B87D-296EE0B4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F6321-FE8F-4973-BA63-11C17FC6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1071-728B-4689-9D6D-4339F7D7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B2D8-B2B8-4B3F-9D5B-A6C056E9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DC78-E0EA-41AC-A0E0-B183881D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3A6-78AA-44E6-97FF-79B70901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B5C23-E405-41FB-8A64-9FF58FD9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B3CB2-D964-456F-8289-4041B86E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9C396-1F43-491B-8E55-31BC7AB3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424C9-C2A8-469C-9F53-9B216DE4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A721-10E2-42D6-A9C9-82880A93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74111-327B-4364-85F5-82E7591E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E2CC6-98D9-4EE3-B95E-858DAF39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D257D-A246-4478-8D55-953D3AF7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E4EE4-560D-4CF4-9984-55F70B0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1CD60-767C-4A5F-8012-AD65D276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4A2-AAAA-484D-933A-DEDA9DAD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D1DD-2A22-4740-80DF-E2F1D177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79F27-FA5A-40CD-820F-15CC08B6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1587D-4E60-4798-B9DA-E3ECAED6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C8B2D-049F-4667-B73F-F139A27A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28B2F-441C-4508-842D-34D1493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EBA07-DF0D-4878-8FD0-60248F2C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A681-48D5-4F19-9D28-F742B8FA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180E5-5094-42C2-BA98-A2023BA4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1BA87-8637-4D0B-BF82-890255C6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B539E-0195-4622-9761-A8892CD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2A6-F61F-4D17-A13A-263DF040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7DCD5-ACCD-4CA8-90C1-AE82137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A625D-F241-4EAF-BD85-4439BF19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16288-7D75-4F88-A2FC-1188B5EA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0DECE-3852-4DF3-8D7B-49D60773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EC5D5-C563-450B-A4D1-D77D9E9C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C2981-AD54-4FD5-8F57-DBCBB5F2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99537-E76E-4834-8012-DB5A9329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D896E-83D3-42BA-B0E6-4D474E7B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BC3D4-2C96-4F19-91DA-49B0C636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52CB-4B7D-4A9B-9D69-D3AE18E9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A52-9788-4696-B046-41AFA91F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BD063-5BA0-44B4-8E7A-3D2151E7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0C307-184C-4B69-9DBC-FB6CEB8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6A8D9-A766-4E66-9EFE-40D74684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086EE-9A92-4E19-A08C-70A85EA3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5E994-03A8-4D59-8D03-73C6CCE1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989BC-B7E0-4744-9CAD-D9E1CE38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AB1F7-8464-462B-9656-77476F9A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B4C51-08DA-40CA-8E9F-F97B9FAC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80FF8-C502-4253-A679-D006EC5C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AC45D-39A6-447A-AA32-65549EBC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0" t="0" r="9633" b="0"/>
          <a:stretch/>
        </p:blipFill>
        <p:spPr>
          <a:xfrm>
            <a:off x="1163520" y="0"/>
            <a:ext cx="11023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ounded Rectangle 8"/>
          <p:cNvSpPr/>
          <p:nvPr/>
        </p:nvSpPr>
        <p:spPr>
          <a:xfrm>
            <a:off x="838080" y="325440"/>
            <a:ext cx="10966680" cy="6207120"/>
          </a:xfrm>
          <a:prstGeom prst="roundRect">
            <a:avLst>
              <a:gd name="adj" fmla="val 4005"/>
            </a:avLst>
          </a:prstGeom>
          <a:noFill/>
          <a:ln w="38160">
            <a:solidFill>
              <a:srgbClr val="fff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1635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240920" y="6356520"/>
            <a:ext cx="316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37120" y="6356520"/>
            <a:ext cx="279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80520" y="6356520"/>
            <a:ext cx="316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9D43-4B8E-4004-A576-41D3B91DDF4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A3DE-405F-4B26-B9A6-6FC52ADC4D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C9D0-0C62-48DF-90AB-18FCC10D8A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0935-4EAC-423B-A0B2-7D30D7CCF3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3432-1596-4D85-B692-F8E687E8C9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E7CA-D948-4C67-90D8-BFCA3C26CA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EF7F-3906-4860-B7E0-E2A45F52AE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C894-D398-464D-A747-260AF19325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90E4-6915-43C4-84B7-EE4EFBEE21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1A6E-60A7-41D0-905C-E7C30BEF8E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4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32C1-374A-489D-9857-1CFE7FE44F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rcRect l="0" t="0" r="9633" b="0"/>
          <a:stretch/>
        </p:blipFill>
        <p:spPr>
          <a:xfrm>
            <a:off x="1163520" y="0"/>
            <a:ext cx="110235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ounded Rectangle 8"/>
          <p:cNvSpPr/>
          <p:nvPr/>
        </p:nvSpPr>
        <p:spPr>
          <a:xfrm>
            <a:off x="838080" y="325440"/>
            <a:ext cx="10966680" cy="6207120"/>
          </a:xfrm>
          <a:prstGeom prst="roundRect">
            <a:avLst>
              <a:gd name="adj" fmla="val 4005"/>
            </a:avLst>
          </a:prstGeom>
          <a:noFill/>
          <a:ln w="38160">
            <a:solidFill>
              <a:srgbClr val="fff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1635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18998" t="0" r="0" b="0"/>
          <a:stretch/>
        </p:blipFill>
        <p:spPr>
          <a:xfrm>
            <a:off x="0" y="0"/>
            <a:ext cx="98758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rcRect l="64763" t="0" r="16252" b="0"/>
          <a:stretch/>
        </p:blipFill>
        <p:spPr>
          <a:xfrm>
            <a:off x="9863280" y="0"/>
            <a:ext cx="2328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387360" y="4076640"/>
            <a:ext cx="9475920" cy="201636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387360" y="325440"/>
            <a:ext cx="11417400" cy="6207120"/>
          </a:xfrm>
          <a:prstGeom prst="roundRect">
            <a:avLst>
              <a:gd name="adj" fmla="val 7560"/>
            </a:avLst>
          </a:prstGeom>
          <a:noFill/>
          <a:ln w="38160">
            <a:solidFill>
              <a:srgbClr val="fff4ce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Straight Connector 11" descr=""/>
          <p:cNvPicPr/>
          <p:nvPr/>
        </p:nvPicPr>
        <p:blipFill>
          <a:blip r:embed="rId6"/>
          <a:stretch/>
        </p:blipFill>
        <p:spPr>
          <a:xfrm>
            <a:off x="384120" y="5559480"/>
            <a:ext cx="9509040" cy="30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240920" y="6356520"/>
            <a:ext cx="316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037120" y="6356520"/>
            <a:ext cx="279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80520" y="6356520"/>
            <a:ext cx="316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4DB1-87D8-4308-9C87-E32A67B63BA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19BE-7A2A-4761-A8BE-F7F40F84E6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AD7A-C574-4FF1-8C17-174A36707D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CEEB-AB33-47D3-94C6-C48A580F3A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745F-C758-4E25-B8F5-056412B085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7DBA-B608-431C-9D1A-E61B053EBB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D269-1F3C-470D-BD98-BD84FFA90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0E9A-4BD5-4209-B3A3-A75910A325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F383-EB16-4FDC-9F40-F2A0B31A8A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A5EC-5BC0-44CB-9ED7-F589420409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4DEA-CE61-4961-A1C9-D672900F23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E889-ED91-40B7-9E19-00199DF817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21E-88FB-4B2F-95FB-492AC2E569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6A89-CEAF-4198-82A2-57D86A6DDC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EDA-0B73-4BDE-A88C-AC36E706E7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74680" y="3100320"/>
            <a:ext cx="1011096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2012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年终总结系列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170000" y="565740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 Light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此处添加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90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7:37:57Z</dcterms:created>
  <dc:creator>邹恩栋</dc:creator>
  <dc:description/>
  <cp:keywords>XS-宽屏 16：9;SC-深棕色;BG-深色;DH-静态</cp:keywords>
  <dc:language>en-US</dc:language>
  <cp:lastModifiedBy>a</cp:lastModifiedBy>
  <dcterms:modified xsi:type="dcterms:W3CDTF">2014-12-15T17:39:27Z</dcterms:modified>
  <cp:revision>9</cp:revision>
  <dc:subject>TP-通用纹理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