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1B13-18FD-43B8-8FB5-B34CFBDE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F544-6C02-4027-9938-797F71DD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5F3D-FED9-473A-955C-6049A1C4B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1588-23AE-484C-ABFC-74720ABD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631E-AE1F-4F04-BF5A-6950E494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9A76-AD7D-492E-9E18-5139151A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02A7-215D-4338-A7EE-3B89DFB8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A402-D96E-45D0-A95F-004CCED9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D9CC-1A32-4E45-8204-FB172B07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6C1B-D89A-41DC-AB30-D857D526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7826-AE80-48AE-9656-6318FB88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BE7F-0CD1-4E00-B0EA-4312587F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48C4-6737-4010-A943-AD6A38BA0D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3240" y="3718080"/>
            <a:ext cx="9144000" cy="3143160"/>
          </a:xfrm>
          <a:prstGeom prst="rect">
            <a:avLst/>
          </a:prstGeom>
          <a:solidFill>
            <a:srgbClr val="cc99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76200" y="1843200"/>
            <a:ext cx="52344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cc9900"/>
                </a:solidFill>
                <a:latin typeface="Impact"/>
                <a:ea typeface="微软雅黑"/>
              </a:rPr>
              <a:t>DO </a:t>
            </a:r>
            <a:r>
              <a:rPr b="0" lang="zh-CN" sz="6000" spc="-1" strike="noStrike">
                <a:solidFill>
                  <a:srgbClr val="cc9900"/>
                </a:solidFill>
                <a:latin typeface="Impact"/>
                <a:ea typeface="微软雅黑"/>
              </a:rPr>
              <a:t>SOME</a:t>
            </a:r>
            <a:r>
              <a:rPr b="0" lang="zh-CN" sz="8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068720" y="3871800"/>
            <a:ext cx="38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Impact"/>
                <a:ea typeface="微软雅黑"/>
              </a:rPr>
              <a:t>HARV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5"/>
          <p:cNvSpPr/>
          <p:nvPr/>
        </p:nvSpPr>
        <p:spPr>
          <a:xfrm>
            <a:off x="3240" y="1074600"/>
            <a:ext cx="9144000" cy="5786640"/>
          </a:xfrm>
          <a:prstGeom prst="rect">
            <a:avLst/>
          </a:prstGeom>
          <a:solidFill>
            <a:srgbClr val="cc99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ttangolo 5"/>
          <p:cNvSpPr/>
          <p:nvPr/>
        </p:nvSpPr>
        <p:spPr>
          <a:xfrm>
            <a:off x="733320" y="2003400"/>
            <a:ext cx="7572600" cy="3643200"/>
          </a:xfrm>
          <a:prstGeom prst="roundRect">
            <a:avLst>
              <a:gd name="adj" fmla="val 28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9"/>
          <p:cNvSpPr/>
          <p:nvPr/>
        </p:nvSpPr>
        <p:spPr>
          <a:xfrm>
            <a:off x="407880" y="1249200"/>
            <a:ext cx="38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</a:rPr>
              <a:t>WHA IS HARV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5"/>
          <p:cNvGrpSpPr/>
          <p:nvPr/>
        </p:nvGrpSpPr>
        <p:grpSpPr>
          <a:xfrm>
            <a:off x="1101240" y="2435400"/>
            <a:ext cx="2061360" cy="2239560"/>
            <a:chOff x="1101240" y="2435400"/>
            <a:chExt cx="2061360" cy="2239560"/>
          </a:xfrm>
        </p:grpSpPr>
        <p:sp>
          <p:nvSpPr>
            <p:cNvPr id="48" name="Rettangolo 7"/>
            <p:cNvSpPr/>
            <p:nvPr/>
          </p:nvSpPr>
          <p:spPr>
            <a:xfrm>
              <a:off x="1101240" y="2876040"/>
              <a:ext cx="206136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1. ADJ-GRADED </a:t>
              </a: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不可思议的；难以置信的；极好的；非常棒的 </a:t>
              </a: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If you say that something is unbelievable, you are emphasizing that it is very good, impressive, intense, or extrem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18"/>
            <p:cNvSpPr/>
            <p:nvPr/>
          </p:nvSpPr>
          <p:spPr>
            <a:xfrm>
              <a:off x="1303200" y="24354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9900"/>
                  </a:solidFill>
                  <a:latin typeface="Articulate"/>
                </a:rPr>
                <a:t>unbeliev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8"/>
          <p:cNvGrpSpPr/>
          <p:nvPr/>
        </p:nvGrpSpPr>
        <p:grpSpPr>
          <a:xfrm>
            <a:off x="3525480" y="2435400"/>
            <a:ext cx="2061360" cy="1813320"/>
            <a:chOff x="3525480" y="2435400"/>
            <a:chExt cx="2061360" cy="1813320"/>
          </a:xfrm>
        </p:grpSpPr>
        <p:sp>
          <p:nvSpPr>
            <p:cNvPr id="51" name="Rettangolo 7"/>
            <p:cNvSpPr/>
            <p:nvPr/>
          </p:nvSpPr>
          <p:spPr>
            <a:xfrm>
              <a:off x="3525480" y="2876040"/>
              <a:ext cx="206136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2. ADJ </a:t>
              </a: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极其糟糕的；令人震惊的；令人无法相信的 </a:t>
              </a: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You can use unbelievable to emphasize that you think something is very bad or shocking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45"/>
            <p:cNvSpPr/>
            <p:nvPr/>
          </p:nvSpPr>
          <p:spPr>
            <a:xfrm>
              <a:off x="3727440" y="24354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9900"/>
                  </a:solidFill>
                  <a:latin typeface="Articulate"/>
                </a:rPr>
                <a:t>unbeliev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1"/>
          <p:cNvGrpSpPr/>
          <p:nvPr/>
        </p:nvGrpSpPr>
        <p:grpSpPr>
          <a:xfrm>
            <a:off x="5947920" y="2435400"/>
            <a:ext cx="2061360" cy="1813320"/>
            <a:chOff x="5947920" y="2435400"/>
            <a:chExt cx="2061360" cy="1813320"/>
          </a:xfrm>
        </p:grpSpPr>
        <p:sp>
          <p:nvSpPr>
            <p:cNvPr id="54" name="Rettangolo 7"/>
            <p:cNvSpPr/>
            <p:nvPr/>
          </p:nvSpPr>
          <p:spPr>
            <a:xfrm>
              <a:off x="5947920" y="2876040"/>
              <a:ext cx="206136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3. ADJ </a:t>
              </a: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不可信的；不像真实的 </a:t>
              </a:r>
              <a:r>
                <a:rPr b="0" lang="en-US" sz="1400" spc="-1" strike="noStrike">
                  <a:solidFill>
                    <a:srgbClr val="3f3f3f"/>
                  </a:solidFill>
                  <a:latin typeface="Arial"/>
                </a:rPr>
                <a:t>If an idea or statement is unbelievable, it seems so unlikely to be true that you cannot believe it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48"/>
            <p:cNvSpPr/>
            <p:nvPr/>
          </p:nvSpPr>
          <p:spPr>
            <a:xfrm>
              <a:off x="6149880" y="24354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9900"/>
                  </a:solidFill>
                  <a:latin typeface="Articulate"/>
                </a:rPr>
                <a:t>unbeliev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矩形 52"/>
          <p:cNvSpPr/>
          <p:nvPr/>
        </p:nvSpPr>
        <p:spPr>
          <a:xfrm>
            <a:off x="6718320" y="5877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hiller"/>
              </a:rPr>
              <a:t>To D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50"/>
          <p:cNvSpPr/>
          <p:nvPr/>
        </p:nvSpPr>
        <p:spPr>
          <a:xfrm flipH="1">
            <a:off x="3249720" y="2955960"/>
            <a:ext cx="1440" cy="2000160"/>
          </a:xfrm>
          <a:prstGeom prst="line">
            <a:avLst/>
          </a:prstGeom>
          <a:ln w="9360">
            <a:solidFill>
              <a:srgbClr val="3f3f3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50"/>
          <p:cNvSpPr/>
          <p:nvPr/>
        </p:nvSpPr>
        <p:spPr>
          <a:xfrm>
            <a:off x="5597640" y="2955960"/>
            <a:ext cx="0" cy="2000160"/>
          </a:xfrm>
          <a:prstGeom prst="line">
            <a:avLst/>
          </a:prstGeom>
          <a:ln w="9360">
            <a:solidFill>
              <a:srgbClr val="3f3f3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5"/>
          <p:cNvSpPr/>
          <p:nvPr/>
        </p:nvSpPr>
        <p:spPr>
          <a:xfrm>
            <a:off x="3240" y="5481720"/>
            <a:ext cx="9144000" cy="1368360"/>
          </a:xfrm>
          <a:prstGeom prst="rect">
            <a:avLst/>
          </a:prstGeom>
          <a:solidFill>
            <a:srgbClr val="cc99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7596360" y="5877000"/>
            <a:ext cx="914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英英释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755640" y="909720"/>
            <a:ext cx="381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Ad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1. beyond belief or understandin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"at incredible spee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"the book's plot is simply incredibl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synonym</a:t>
            </a: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： </a:t>
            </a: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incred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076720" y="1450800"/>
            <a:ext cx="343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2. having a probability to low to inspire bel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synonym</a:t>
            </a: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： </a:t>
            </a: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improbable</a:t>
            </a: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，</a:t>
            </a: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unconvincing</a:t>
            </a: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，</a:t>
            </a: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unlik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50"/>
          <p:cNvSpPr/>
          <p:nvPr/>
        </p:nvSpPr>
        <p:spPr>
          <a:xfrm>
            <a:off x="4633920" y="1054080"/>
            <a:ext cx="0" cy="3672000"/>
          </a:xfrm>
          <a:prstGeom prst="line">
            <a:avLst/>
          </a:prstGeom>
          <a:ln w="9360">
            <a:solidFill>
              <a:srgbClr val="3f3f3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5"/>
          <p:cNvSpPr/>
          <p:nvPr/>
        </p:nvSpPr>
        <p:spPr>
          <a:xfrm>
            <a:off x="3240" y="5481720"/>
            <a:ext cx="9144000" cy="1368360"/>
          </a:xfrm>
          <a:prstGeom prst="rect">
            <a:avLst/>
          </a:prstGeom>
          <a:solidFill>
            <a:srgbClr val="cc99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7596360" y="5877000"/>
            <a:ext cx="914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双语例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755640" y="909720"/>
            <a:ext cx="381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1. Tom was driving his sports car at an unbelievable high spe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汤姆正在以令人难以相信的高速驾驶着自己的跑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2. They work with an unbelievable spe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他们以令人难以置信的速度工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076720" y="909720"/>
            <a:ext cx="3434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3. That story is unbeliev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那故事不可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4. Even the mass movement has degenerated to an unbelievable extent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Impact"/>
              </a:rPr>
              <a:t>便是群众运动也堕落到叫人难以相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50"/>
          <p:cNvSpPr/>
          <p:nvPr/>
        </p:nvSpPr>
        <p:spPr>
          <a:xfrm>
            <a:off x="4633920" y="1054080"/>
            <a:ext cx="0" cy="3672000"/>
          </a:xfrm>
          <a:prstGeom prst="line">
            <a:avLst/>
          </a:prstGeom>
          <a:ln w="9360">
            <a:solidFill>
              <a:srgbClr val="3f3f3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5"/>
          <p:cNvSpPr/>
          <p:nvPr/>
        </p:nvSpPr>
        <p:spPr>
          <a:xfrm>
            <a:off x="0" y="1701720"/>
            <a:ext cx="9144000" cy="3143160"/>
          </a:xfrm>
          <a:prstGeom prst="rect">
            <a:avLst/>
          </a:prstGeom>
          <a:solidFill>
            <a:srgbClr val="cc99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Impact"/>
              </a:rPr>
              <a:t>Thanks for liste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06:37:35Z</dcterms:created>
  <dc:creator>yellownancy</dc:creator>
  <dc:description/>
  <dc:language>en-US</dc:language>
  <cp:lastModifiedBy>a</cp:lastModifiedBy>
  <dcterms:modified xsi:type="dcterms:W3CDTF">2014-12-31T04:42:50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