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E889-35CF-49C5-8483-9CEA5F687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106B-D186-43AA-A069-6DD10E9B3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BC5030-5364-4CA3-B4E7-EF8A500A6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9A09D3-6CDA-4356-8156-DE8D71D21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37FACF-06EC-40EA-A95B-3C521BCB1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E144B0-6359-4184-8DD7-EEC09CE4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088A7A-D90C-4734-8321-391332DD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4F4474-A861-41D0-8753-9845204B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D687C5-7EA4-4056-9F71-0204008C7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D28239-9340-45D7-9A37-4FA7B6095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16C332-93F8-4BB2-8833-68019172E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AE04F0-C0EB-4D92-AB51-A80E84F75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78EE-A06E-4220-BB18-2A8FBF1DD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9553DB-2E82-4B4F-A2D1-1C490C5EE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053CBE-82CD-40CF-ACD6-D25C84F32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D20AB5-68B0-4818-9CE9-C47D456DE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DAD64A-85D3-4032-B7DD-573578D2E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36DD9F-0028-453E-9EFA-6C5D20A75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D5C2A4-AAFD-4656-8307-38FE3885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DCA0E3-51B5-4409-A4F8-94F8FA7B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D96E1D-4AC9-44E0-B394-D80E3629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0C1321-9AE8-4D5F-A965-BB74E0C5C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209B7B-98FA-4045-BFE1-292858794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0C0B-5236-4D96-A849-6BA8EC76A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EF77A1-0D0D-4F49-B917-7213C0486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33F51F-0FAF-4132-8736-7F7FC32B3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9EBB1C-CAE0-4092-8AEF-737204EEE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86ABD0-B896-4A69-91BB-73351EFB4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94B602-72AA-414B-945A-F03F5B42B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CED213-4F6A-4788-BCB1-6BE730245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446349-092E-49D0-9862-DCC6CEF3E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79EAAF-D343-4C63-8918-6CBF2894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93C90C-BADB-4613-81D7-2B736832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232D1F-9EDE-4FE1-9307-EA34B096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47D32-747B-4349-88DA-A77DE1406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65B7D8-3BA1-4957-961D-C475BC63A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5F9E24-D19E-4EE7-814E-ECA7E4418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68399D-A96D-45E7-A0F5-D5FCD7267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D5F563-52D1-481A-8895-93DB76932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4D8DD6-4052-4463-B58A-9D14F5521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49450B-9091-417A-8DD5-A6078F289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033013-FCC8-4660-BCD3-51726FE38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6A3645-EA3E-44CA-B609-BB72DC3E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C3B474-F6E4-47BD-A15B-5FC8E8BD1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842324-2293-4A21-82B9-364AD1D4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8C0FD-7AAC-4A73-B5D4-772FD27E9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065205-AC95-46CA-B2FD-A2A72E5A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6109B3-56BD-4AED-B2F5-C272D4BB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2A6756-3F84-49D0-A9E8-79BB83D09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678616-440E-40DD-899B-445C9FD52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492F8A-2775-4001-B117-151C6195F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2208BF-C505-413B-A533-954E703BD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7ECAC6-B4A4-47F7-9771-77C2C8DD2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0EB5C5-7857-47C5-856D-F2484276A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3C67F7-8307-4448-B7F3-9EC85B7D8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71A164-AEDF-452C-A782-716594206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DD6FB-6C4C-4F9B-9367-4334E18BF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AFD832-016E-414D-86D9-2759C3D61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9F285F-F9EF-4DBB-82F9-FCE6AFE4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FD2CF6-04AE-4307-87A3-308FEAAB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C36547-4867-4E4A-B57C-020D3052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8C46A9-FDB2-4986-9B1E-8571D1B09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083078-7F75-4BCA-97A5-1207E2261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BB077F-4AD6-4FB8-84ED-3A0008081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DE30A-6922-41D7-952F-11E545F2B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6C525-6E26-4705-97A3-67A799FE9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62CB9-891A-42BB-AAB5-354EC2ABA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A7606-5357-43B6-935B-74B5E944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0368-68B5-41BB-8000-0ABA259B2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D067A-F200-4439-8553-BCF2452D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4C710-EB97-41D0-A9BF-2A716017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88AE6-2FF7-4F9F-BFF4-004A45EF6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2444A-DBCE-4A96-9D0B-C3B70748D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CDC23-B798-4168-9206-59CFBDA4F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F5BD3-3206-4F3B-B52D-A3D64B4CA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8DD5B-929A-4569-A0FA-A3FF5C02F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A682C-D335-4983-8A89-9830CEFA3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2E7D6-A35A-4989-9747-E88EEAFD4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4B6E1-029F-45B8-B19F-9BCC1713B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915A-A205-4C36-A9C8-0C6C1CFDC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DC756-24B5-45EE-B1B9-2C3FFD86A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76E94-6D2D-4095-8780-A7A456D1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59C05-DB21-4782-85B9-B84A6539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F580F-B458-4114-8221-0DB1A5EC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EB54D-ABC0-4544-88E5-50AA91943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7CC5E-669E-45FA-B990-70933B606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A0BD3-0D1A-4BDE-B6A6-E60B48A6C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C9E55-AD97-4171-9F64-0939B12FD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06513-12AE-4C87-8CC2-DE3E11AB8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19209-CD8D-458F-942F-C1F567617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265C-60AB-44FB-8597-C9759DD3D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C0C08-0761-493C-B097-65B92726B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A44FA-3FC7-4DC3-818A-3D4744366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0A505-A65A-4562-8E49-6C553E36B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75E80-91AA-410E-93B6-004E9A1D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F8D34-8793-4B2E-98DC-32FE8660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87B05-75C2-4B07-994B-6F2FCE97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85FD3-D869-4535-B16E-C56AAD514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20947-7B04-477D-97AC-D2282FF20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8E962-01FB-48D5-9988-421A9FE81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F4C49-522E-458E-B104-F09EDB326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655C-93D6-40D6-943A-2E73CCEA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4F164-262D-4843-B527-1DC5D4BE1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C3E20-2176-47B2-ACB7-D0423AACE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4965C-5865-46C4-AE3B-D84412CF3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0B175-01E9-4C47-AD60-5D11A8457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EC31F-9160-469E-98DB-E3AFEA4C4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96CFF-F8B7-4096-B674-0B050DB1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B9AEF-8285-4152-A173-C4946F96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D374D-97A3-46A4-B282-12517D91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3A708-F732-4E56-93C4-3536FF451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4579C-3963-4DB7-A0B4-763C0DD54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845C-AE10-4814-BFEF-6AB0AA8F2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2F945-D7B8-420D-BA42-6F09AB5E0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DFE1AD-9C72-4609-8D0D-F2DF7C25D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E6CBA-E5F5-4C94-9B9F-FBEC21633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38237-7CF2-4D30-B317-E50301104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14434-2E70-47EC-8400-02AEB0F6D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B57739-F421-4B2C-BEB2-59A90F82B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6BB4A-44B6-44D2-82EC-65D90377C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3153C-8EAD-471C-8DB5-B6169F11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8D621-CF2B-4C80-B705-C7AB4C65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2C09B5-1B24-493E-906F-CF7F2A0B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5D5C-7C06-4FD7-828C-5B57C204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44A59D-0D95-4393-A117-C9BF27D92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57FDF9-52CC-4392-8456-F7F8466B2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55C2D-21A7-4ED8-B0A2-F4C202078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D6A96-7C2F-46DE-9F13-7B04DB05F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AF61E-ACDE-492E-9551-E2DF21F59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74C8A5-9D39-4151-A53F-CB19FD02A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FA911-A931-4314-BE57-F23895E2A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A20AB-2427-4004-91FF-A01E01CCB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C32D9-DB22-44B2-8612-8A9466186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D84FC-3DCD-4470-8868-CF35487E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9C63-AD74-4837-B01E-C7839B1D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D9A10-BA1E-4160-9FC0-601621B6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C70A1E-F00D-4094-B7D1-39B2B5E7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6850E9-7C3C-4D7E-BB0A-81280A1D3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DA993A-DD85-444B-BCEB-0BCA8710F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E70B25-3586-490D-B9B4-D02F78AA1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B3E2BD-51EF-44D7-8CDD-3495828E6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F52A6B-8D63-4506-8E91-A0D79F557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719214-68D2-45E8-869F-44F2A6927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2F772E-CD38-4D59-852E-2DDD392EC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FE1BAB-40CE-41B1-BDB7-A309F3D7E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51CA-F63A-4EB8-8F62-8401D9CF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DB8D8B-D7BA-4C43-B5AD-7D967373E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847BB-5439-4F4B-9B72-74544B16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A4554-25FB-43A8-9CBF-848621E08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F5E863-1544-49D3-9697-0B40F88C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FDC6A7-C5F0-424E-B5BD-ACBA2FAAF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D55DCE-8EDE-4CDD-9916-E44D25E15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359F1E-634E-4ABF-A2B5-ED2FBECFA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10EA26-2F84-484C-913F-5946BDC47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8B1812-290B-42D8-8578-2FB367643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FC7A06-2397-4544-8790-C0F76B215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91C33-6BBB-4B7E-8EA1-B19A694E1E4E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42B6A-195C-4D6F-99A5-41098085934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FBB3B-4887-4638-A9B6-435A4EE2C82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09907-DE5E-4A59-903A-8DFBA908AF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B458D-7D79-44C4-9A78-B851B75D3C8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A99A2-E973-4B2E-8F72-97E222E255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CB25C-44B2-4E41-808D-0CC73B29B15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AEAF-B3C7-4DE3-9C81-0A82136DB1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3C54-D55A-4678-87AB-089F9594574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5919C-6E3C-4B4B-830B-243A7129B9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A0A22-954B-4751-89B8-0D1EA33BCC5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CE89F-9A59-456C-8B8B-B09C2952AF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E723C-CA85-4ADC-9361-8B3709BBF2E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BD778-1958-4658-B599-96D3F10E81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05E7A-6293-4466-9C2B-72823759146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6B248-0268-4A01-A0FC-290F956537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5A9A3-F924-4EE6-A78C-45FA7406049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1D88-82D7-47DF-8F72-265B041EC6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56111-C070-4872-86EF-80C1F81F66A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3CE7-AC5A-4AE9-A9F3-0B4248FE73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1340E-F11A-4FCD-B673-2B34689710F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27EAD-FB8D-4346-AC07-9A375446A0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B7CDF-447C-4CC7-A69A-FF97A973B3C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FDA92-A78C-4AB2-892A-9B24071862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8397A-A8C3-4FC9-B201-D76079F39F1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D32E4-2B43-40EA-B15F-203DCD0595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圆角矩形 9"/>
          <p:cNvSpPr/>
          <p:nvPr/>
        </p:nvSpPr>
        <p:spPr>
          <a:xfrm>
            <a:off x="5191200" y="1335240"/>
            <a:ext cx="2843280" cy="1152360"/>
          </a:xfrm>
          <a:prstGeom prst="roundRect">
            <a:avLst>
              <a:gd name="adj" fmla="val 16667"/>
            </a:avLst>
          </a:prstGeom>
          <a:solidFill>
            <a:srgbClr val="94dd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在此录入文字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圆角矩形 11"/>
          <p:cNvSpPr/>
          <p:nvPr/>
        </p:nvSpPr>
        <p:spPr>
          <a:xfrm>
            <a:off x="9901080" y="1471680"/>
            <a:ext cx="2590920" cy="115236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2" descr=""/>
          <p:cNvPicPr/>
          <p:nvPr/>
        </p:nvPicPr>
        <p:blipFill>
          <a:blip r:embed="rId1"/>
          <a:stretch/>
        </p:blipFill>
        <p:spPr>
          <a:xfrm>
            <a:off x="750960" y="2462040"/>
            <a:ext cx="3333600" cy="315288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2" descr=""/>
          <p:cNvPicPr/>
          <p:nvPr/>
        </p:nvPicPr>
        <p:blipFill>
          <a:blip r:embed="rId2"/>
          <a:stretch/>
        </p:blipFill>
        <p:spPr>
          <a:xfrm>
            <a:off x="390600" y="5783400"/>
            <a:ext cx="722160" cy="682560"/>
          </a:xfrm>
          <a:prstGeom prst="rect">
            <a:avLst/>
          </a:prstGeom>
          <a:ln w="0">
            <a:noFill/>
          </a:ln>
        </p:spPr>
      </p:pic>
      <p:sp>
        <p:nvSpPr>
          <p:cNvPr id="537" name="TextBox 16"/>
          <p:cNvSpPr/>
          <p:nvPr/>
        </p:nvSpPr>
        <p:spPr>
          <a:xfrm>
            <a:off x="702360" y="493560"/>
            <a:ext cx="225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94dd43"/>
                </a:solidFill>
                <a:latin typeface="Berlin Sans FB Demi"/>
              </a:rPr>
              <a:t>MA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19"/>
          <p:cNvSpPr/>
          <p:nvPr/>
        </p:nvSpPr>
        <p:spPr>
          <a:xfrm>
            <a:off x="2933280" y="1093680"/>
            <a:ext cx="110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pple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圆角矩形 23"/>
          <p:cNvSpPr/>
          <p:nvPr/>
        </p:nvSpPr>
        <p:spPr>
          <a:xfrm>
            <a:off x="5191200" y="2990880"/>
            <a:ext cx="2843280" cy="1152360"/>
          </a:xfrm>
          <a:prstGeom prst="roundRect">
            <a:avLst>
              <a:gd name="adj" fmla="val 16667"/>
            </a:avLst>
          </a:prstGeom>
          <a:solidFill>
            <a:srgbClr val="94dd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在此录入文字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27"/>
          <p:cNvSpPr/>
          <p:nvPr/>
        </p:nvSpPr>
        <p:spPr>
          <a:xfrm>
            <a:off x="1013040" y="61880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roduct Pro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圆角矩形 9"/>
          <p:cNvSpPr/>
          <p:nvPr/>
        </p:nvSpPr>
        <p:spPr>
          <a:xfrm>
            <a:off x="5191200" y="1335240"/>
            <a:ext cx="2843280" cy="11523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在此录入文字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圆角矩形 11"/>
          <p:cNvSpPr/>
          <p:nvPr/>
        </p:nvSpPr>
        <p:spPr>
          <a:xfrm>
            <a:off x="9901080" y="1471680"/>
            <a:ext cx="2590920" cy="115236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2" descr=""/>
          <p:cNvPicPr/>
          <p:nvPr/>
        </p:nvPicPr>
        <p:blipFill>
          <a:blip r:embed="rId1"/>
          <a:stretch/>
        </p:blipFill>
        <p:spPr>
          <a:xfrm>
            <a:off x="750960" y="2462040"/>
            <a:ext cx="3333600" cy="315288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2" descr=""/>
          <p:cNvPicPr/>
          <p:nvPr/>
        </p:nvPicPr>
        <p:blipFill>
          <a:blip r:embed="rId2"/>
          <a:stretch/>
        </p:blipFill>
        <p:spPr>
          <a:xfrm>
            <a:off x="395280" y="5877000"/>
            <a:ext cx="720720" cy="682560"/>
          </a:xfrm>
          <a:prstGeom prst="rect">
            <a:avLst/>
          </a:prstGeom>
          <a:ln w="0">
            <a:noFill/>
          </a:ln>
        </p:spPr>
      </p:pic>
      <p:sp>
        <p:nvSpPr>
          <p:cNvPr id="545" name="TextBox 16"/>
          <p:cNvSpPr/>
          <p:nvPr/>
        </p:nvSpPr>
        <p:spPr>
          <a:xfrm>
            <a:off x="702360" y="493560"/>
            <a:ext cx="225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c000"/>
                </a:solidFill>
                <a:latin typeface="Berlin Sans FB Demi"/>
              </a:rPr>
              <a:t>MA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19"/>
          <p:cNvSpPr/>
          <p:nvPr/>
        </p:nvSpPr>
        <p:spPr>
          <a:xfrm>
            <a:off x="2199960" y="1693800"/>
            <a:ext cx="110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pple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圆角矩形 23"/>
          <p:cNvSpPr/>
          <p:nvPr/>
        </p:nvSpPr>
        <p:spPr>
          <a:xfrm>
            <a:off x="5191200" y="2990880"/>
            <a:ext cx="2843280" cy="11523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在此录入文字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Box 1"/>
          <p:cNvSpPr/>
          <p:nvPr/>
        </p:nvSpPr>
        <p:spPr>
          <a:xfrm>
            <a:off x="1013040" y="61880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roduct Pro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圆角矩形 9"/>
          <p:cNvSpPr/>
          <p:nvPr/>
        </p:nvSpPr>
        <p:spPr>
          <a:xfrm>
            <a:off x="5191200" y="1335240"/>
            <a:ext cx="2843280" cy="1152360"/>
          </a:xfrm>
          <a:prstGeom prst="roundRect">
            <a:avLst>
              <a:gd name="adj" fmla="val 16667"/>
            </a:avLst>
          </a:prstGeom>
          <a:solidFill>
            <a:srgbClr val="92c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在此录入文字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圆角矩形 11"/>
          <p:cNvSpPr/>
          <p:nvPr/>
        </p:nvSpPr>
        <p:spPr>
          <a:xfrm>
            <a:off x="9901080" y="1471680"/>
            <a:ext cx="2590920" cy="115236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2" descr=""/>
          <p:cNvPicPr/>
          <p:nvPr/>
        </p:nvPicPr>
        <p:blipFill>
          <a:blip r:embed="rId1"/>
          <a:stretch/>
        </p:blipFill>
        <p:spPr>
          <a:xfrm>
            <a:off x="750960" y="2462040"/>
            <a:ext cx="3333600" cy="315288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2" descr=""/>
          <p:cNvPicPr/>
          <p:nvPr/>
        </p:nvPicPr>
        <p:blipFill>
          <a:blip r:embed="rId2"/>
          <a:stretch/>
        </p:blipFill>
        <p:spPr>
          <a:xfrm>
            <a:off x="390600" y="5783400"/>
            <a:ext cx="722160" cy="682560"/>
          </a:xfrm>
          <a:prstGeom prst="rect">
            <a:avLst/>
          </a:prstGeom>
          <a:ln w="0">
            <a:noFill/>
          </a:ln>
        </p:spPr>
      </p:pic>
      <p:sp>
        <p:nvSpPr>
          <p:cNvPr id="553" name="TextBox 16"/>
          <p:cNvSpPr/>
          <p:nvPr/>
        </p:nvSpPr>
        <p:spPr>
          <a:xfrm>
            <a:off x="702360" y="493560"/>
            <a:ext cx="225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92ccdc"/>
                </a:solidFill>
                <a:latin typeface="Berlin Sans FB Demi"/>
              </a:rPr>
              <a:t>MA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19"/>
          <p:cNvSpPr/>
          <p:nvPr/>
        </p:nvSpPr>
        <p:spPr>
          <a:xfrm>
            <a:off x="2901600" y="1150920"/>
            <a:ext cx="110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pple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圆角矩形 23"/>
          <p:cNvSpPr/>
          <p:nvPr/>
        </p:nvSpPr>
        <p:spPr>
          <a:xfrm>
            <a:off x="5191200" y="2990880"/>
            <a:ext cx="2843280" cy="1152360"/>
          </a:xfrm>
          <a:prstGeom prst="roundRect">
            <a:avLst>
              <a:gd name="adj" fmla="val 16667"/>
            </a:avLst>
          </a:prstGeom>
          <a:solidFill>
            <a:srgbClr val="92c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在此录入文字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13"/>
          <p:cNvSpPr/>
          <p:nvPr/>
        </p:nvSpPr>
        <p:spPr>
          <a:xfrm>
            <a:off x="1013040" y="61880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roduct Pro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5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04:45:00Z</dcterms:created>
  <dc:creator>Sophie</dc:creator>
  <dc:description/>
  <cp:keywords/>
  <dc:language>en-US</dc:language>
  <cp:lastModifiedBy>a</cp:lastModifiedBy>
  <dcterms:modified xsi:type="dcterms:W3CDTF">2014-05-24T09:23:36Z</dcterms:modified>
  <cp:revision>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