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8F74-144B-40CA-AE93-F9767630C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0E8F-F76C-4516-9B9A-088BE3BC3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DAE7-7835-42C4-A74B-9987E21F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2635-A7E6-4C0E-A55B-3CF1EB4D5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7F9B-7F3D-4D97-BF68-627B05C4B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5834-CFC5-4670-A2D3-8BE9050F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9C72-B7C7-4EEE-87E2-58EE9F777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14FB-99D2-43A6-BDCE-1D2E9F673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0DF-9CFA-401F-B57F-A8CFB796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DEAB-668A-451E-A2E7-BAD343B70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2AA-14D6-4FA2-B5AF-8F1A28D0E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CD4D-47BE-4B12-B89C-7B9A4CFC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6682A-239E-4075-AB31-42419B3BEEE7}" type="slidenum">
              <a:rPr b="0" lang="es-E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丘比特之吻动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47340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EEPPT.COM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s-ES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s-ES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s-ES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es-ES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30T03:14:39Z</dcterms:created>
  <dc:creator>Mariajose</dc:creator>
  <dc:description/>
  <dc:language>en-US</dc:language>
  <cp:lastModifiedBy>a</cp:lastModifiedBy>
  <dcterms:modified xsi:type="dcterms:W3CDTF">2014-12-31T04:43:57Z</dcterms:modified>
  <cp:revision>2</cp:revision>
  <dc:subject/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