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2E52D-ABAC-4E84-9B3E-9FF1231118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683585-9148-41E7-988C-CF0BAB112D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63C880-B388-432F-90B1-7ABFE6A3E5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F19B18-A6A3-46AA-BA2D-96AC71CBC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D760D-537C-435F-939F-A15812902C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AFCD3-3CEC-45A6-9F09-5DB538791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84DF9-A823-411F-9D71-31A65824F7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56122C-B8FC-4FCD-9567-46A3F91B14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54C7A6-4051-4BED-9080-C1E8E3242A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523BCE-0292-4803-B7A9-6F075030F4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2018C6-C137-47F1-879C-34E6146A0B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2BE332-A0CD-456E-A343-0FC9DC25F6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0615FD-D310-450B-B792-54E77E9C27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1B390A-5F8F-4B4C-B614-9BC947352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1E5AEE-1B6D-4E04-BEF0-4C840F26F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E9641F-B2B7-4C83-A4F9-13EE89859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F6C9F-5071-4241-B1C7-600D289FA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E7522-FCA7-4462-AD5D-3DE41E140B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58CD03-0787-4B35-B315-E9BF14459A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966906-C7B9-4C80-875E-89A7488F4B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58A746-7199-4986-B6CE-4C8ACC18E8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893F4F-1A0B-49FB-96AB-590E5F355D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EF1B72-2550-455C-A735-AA352C198C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C67104-C484-4D64-A376-7B74DA34BB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E6D382-E19A-42AD-A744-C8818C0EDC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A4E156-3137-407A-A3AD-6E774B8C82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F47AAC-22DF-4B65-95F9-3458F76218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EA3604-7014-4DA2-B559-B27EB2F56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F3BA47-AA3C-4A69-B97E-C54DCE566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B8D85-62C8-410F-964F-D78FE15ADB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E361D2-BDF8-493F-A43F-DA1A0E1A2F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0552CF-9992-4826-9714-80D5B5088B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126D15-4868-4590-BFC0-D2F94AEA67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8F166F-49C9-4F6E-9E16-0D5EFEB8EE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CFACAB-E89A-4008-AB23-23DFC7C4A7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0B7163-4F58-48B4-9CBA-BF9ECC7D9D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1C84B6-184E-47DF-B9BB-AF31AF8110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E52079-2F2C-412E-81A6-6129369F92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6B4060-BE62-463A-94B4-765D7281C0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295E97-266C-41CD-8526-0082725470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958D0A-927C-4F56-9DEE-2A7C97E9CC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0ADB95-8F7E-4C40-BEF8-4C3F9E2BBC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3B74F8-0FCE-4F5A-8302-D2591E6FBB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D1FC2A-1FB1-420B-BBDF-BDB90BBDB2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5D67B0-96D3-49FE-A334-5EB20619DF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229B86-74EB-465D-8D75-5C81643BCA6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CF3BD7-BA7A-4A82-B278-410510ADEB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22E6DA-D103-46B3-8639-4FF4FDD721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D7367E-BDCA-4CED-BD90-D4C525F33A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897361-8B92-42EB-A79B-68952414D4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B09598-E577-4DF0-8DBA-8C67E1C971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1C7C00-8BE3-46AA-8427-ACA0512E07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5D1945-C257-4379-97E5-6A273E512B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E0EB15-936E-4BE2-999D-CCB344ED9B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727367-DAF0-4972-9DEE-F4E6CBA2FA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0268A8-2280-4FE0-86DD-58EE52CEE7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C662E5-A65E-4F3A-ACEE-B1E8568B99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079CC7-697A-45BC-BE2B-4A942D1B15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BC8920-3A60-469D-891C-8788FB1B5C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340293-8E8A-4369-9F39-BB094B4ECC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0AB9FB-0FC5-45DA-B4C3-ADEBDC9782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7A3CD7-7576-4257-BEBF-F98715179A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56F2C7-F239-462D-8EC4-F88B03B7ED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56ECF9-1517-4CC1-83F8-E47673BBD6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47543D-4345-465F-9DD2-51E8C14771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0C13ED-4239-4519-A9F8-19B4885F7B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BA2FFE-4015-4930-BC49-61E5BE880B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5342AB8-C11D-4007-8B70-2120E02451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FC65BB-0CEF-4F88-B753-027F044288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750E4-DC78-4BBC-99F0-2777A893C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0FD87-E50D-4DD7-AD28-98E1DF7F2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0ECD9-CE63-4BDE-AC7F-152CD0434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2F6C-ACC2-472D-932B-8625FB4F1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0115F-94EF-4AEB-B67F-B3E82FB8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4314A-7EA7-4F12-A1A1-5F673233E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78CA5-4728-4C78-BC10-23A44A568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718F-D1C2-42DE-B499-6B755EC45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E5D1-5428-40EA-945D-8181DBB9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FF05-0226-43D7-9FFD-10B8367D6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FFD33-98C9-474A-AB96-60462A612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A690A-E224-4FDC-BAA7-506960C71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5937D-984B-4975-A8E5-32340DA5C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45A3B-B583-4EFF-ACB9-F691A9098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89562-5C82-468C-992D-B681663D3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33631-59CD-498D-A50D-7A99A7524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20396-DA97-43FE-8FA1-531EDEAF8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CCB33-9887-4A2F-86E3-9FBC29463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9824A-4D74-4F83-9A95-400321F4C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4C81D-2EDF-4B18-AB91-24870FAF1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14943-9DB0-4975-944B-6D0E9AC99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EA2A7-B2AC-4D6A-AC4E-B5DCC96E1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24F5E-09D0-4805-BAF9-CC9A7D7C1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90F71-E97B-4EC8-AF01-2592A090F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4B37CA-7E13-4350-8A55-746D5374F9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EB0C6-108F-42A1-9F21-2E8D48673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84E5A-47ED-47F3-B247-F60709E25D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232F8-50B4-4953-B805-6D0C57F92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360C1-2BDC-4568-98F7-E42F46354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D3668-8D6B-4C98-8FFC-B10D45989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26C6B-0A0E-481D-A05D-4A2F6A1EF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4CF5C-7B03-4CA0-A245-A069C1B19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6CA924-8C6D-4399-887A-784DF8A2D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59031-2C1B-414C-BC3E-38E2E664A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03D903-822F-4DBB-8DE9-BC884C97CB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67AC39-AE85-4848-BF95-5332D4A46B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547996-1567-4E9B-B1DF-8CB838BB43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048D1-88D6-456E-9ECF-2EA6DA20C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DD780D-8E87-4363-BC68-5FAADE59E2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C8F2F8-1C45-425E-8169-0E7A3B8DF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A635F6-6B4B-49E0-8F3A-D4DD2CA9C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A3184-13E2-48E3-A201-FB44C826B5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5E623-A649-4D23-8D77-2FB1CE178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83392-B422-4B6D-8BAC-086B41651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F946F-50BF-42EE-BB26-A21053606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8D4C6-A846-47A3-9D02-51BDD74BE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0C7D3D-95FE-46AF-B78C-16C9CF993B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7601A7-4420-446C-A5F0-5F4987338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4E29AF-5C93-434B-905B-322720B076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11B27-8081-4462-90F9-4B398061ED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65402-D18D-4BB7-B601-C14CF9F6F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9F796E-AE26-4075-99FA-F8548BFF3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93931C-182E-4A79-969D-13D1BF851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DDDEED-9C28-4422-852C-CEBD4051A0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0F2D6-8FF4-4265-9A11-55A19903F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65F03E-31B4-4696-9B61-877A0CB11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66A33-5EF9-495B-AB68-1C8673A00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69817-1AE0-4806-8A50-7FD84BCBD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31ACE4-6794-4251-8C84-2F57EE8D9E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56CEAF-C93D-4EB7-9C89-CBFEC3584A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A20B41-B543-4B2F-95D4-53778C5DD1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6AD1F-D100-4BD7-BBBC-078A230F14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642433-E4FB-4C80-BAC2-A7B7D1FB7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569777-9161-44A7-ABDA-33B62B613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348398-ACD5-4A75-8846-13C8B6D0F9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0093F-CCA1-42C2-8204-BC800EC4D5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8B847-35F3-4468-859A-3967B6E8EA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0711B-1B80-495A-BBDF-BBAF0F4A1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4B86D-5DD0-4709-B6D9-9BF790BDB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D5D552-9E55-4238-9CE5-F3C7EBB141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5E6AD2-B919-4249-91B6-E38B7D06B9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CE9E82-251E-4E7C-A8E7-C2B5509E25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9CA251-30B0-4106-816A-AD8771A0E9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1B2CA-776D-4631-83D1-51D16C9E8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948ED6-2F85-4279-B347-13737CC7A88A}"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D2A9-126E-42A1-9641-72262B7C22B0}"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36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F764-6C5F-4121-95F3-244AADC155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D414-F7FB-48DB-A032-C23328264285}"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0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B99B-A053-408E-90BB-E15BFEEF74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47D5-4226-4540-AF1C-A8B55E71D5A5}"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4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5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5683-AB13-4511-827D-55A94609AD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71D7-93FE-42C9-98E7-9B5069D82C2E}"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9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DB96-F701-4E8B-9E3D-37FDE50ECD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18B5-AAF7-4BB9-922F-46CF007A8CC8}"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53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4F10-2943-4F72-9488-09B0D34901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7"/>
          <p:cNvSpPr/>
          <p:nvPr/>
        </p:nvSpPr>
        <p:spPr>
          <a:xfrm>
            <a:off x="0" y="609480"/>
            <a:ext cx="4952880" cy="1371600"/>
          </a:xfrm>
          <a:prstGeom prst="rect">
            <a:avLst/>
          </a:prstGeom>
          <a:solidFill>
            <a:srgbClr val="b92d1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40"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35E2-4175-4610-B8B0-E62C847912FF}"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8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28A9-4B4E-445F-8A6B-D065CA1AF2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3854-4F39-4759-B638-C6FAEE86D493}"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12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39F7-A56B-450A-AFD1-CC22798398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939F-CB9A-47D2-A52C-7B2DE03E3D21}"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16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B016-3F0D-44B6-9A89-181DB6305E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ED61-36DB-4D24-9253-4EE44531DB73}"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20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2CCB-D646-4255-AD8D-FD0B7ED5AE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A2AD-06A9-44F8-AD52-FB4D53544D6A}"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24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A434-0961-40A6-B845-F7618E2842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9862-BA98-4F57-A526-74EBF7C2956F}"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28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ADAE-C25A-4D6F-9796-95F00D5BE2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8B6F-EAE2-45B1-B4FF-45FAA86CAA92}"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CD21-0FFE-4E9D-83FC-DA70CCFF11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52440" y="769680"/>
            <a:ext cx="4648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Microsoft Sans Serif"/>
                <a:ea typeface="宋体"/>
              </a:rPr>
              <a:t>起跑线</a:t>
            </a:r>
            <a:r>
              <a:rPr b="0" lang="en-US" sz="3200" spc="-1" strike="noStrike">
                <a:solidFill>
                  <a:srgbClr val="ffffff"/>
                </a:solidFill>
                <a:latin typeface="Microsoft Sans Serif"/>
                <a:ea typeface="宋体"/>
              </a:rPr>
              <a:t>ppt</a:t>
            </a:r>
            <a:r>
              <a:rPr b="0" lang="zh-CN" sz="3200" spc="-1" strike="noStrike">
                <a:solidFill>
                  <a:srgbClr val="ffffff"/>
                </a:solidFill>
                <a:latin typeface="Microsoft Sans Serif"/>
                <a:ea typeface="宋体"/>
              </a:rPr>
              <a:t>模板</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18960" y="182196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2d14"/>
                </a:solidFill>
                <a:latin typeface="Microsoft Sans Serif"/>
                <a:ea typeface="宋体"/>
              </a:rPr>
              <a:t>Slide master</a:t>
            </a:r>
            <a:endParaRPr b="0" lang="en-US" sz="4400" spc="-1" strike="noStrike">
              <a:solidFill>
                <a:srgbClr val="4d4d4d"/>
              </a:solidFill>
              <a:latin typeface="Microsoft Sans Serif"/>
            </a:endParaRPr>
          </a:p>
        </p:txBody>
      </p:sp>
      <p:sp>
        <p:nvSpPr>
          <p:cNvPr id="571" name="PlaceHolder 2"/>
          <p:cNvSpPr>
            <a:spLocks noGrp="1"/>
          </p:cNvSpPr>
          <p:nvPr>
            <p:ph/>
          </p:nvPr>
        </p:nvSpPr>
        <p:spPr>
          <a:xfrm>
            <a:off x="1142640" y="3041280"/>
            <a:ext cx="6705720" cy="3282840"/>
          </a:xfrm>
          <a:prstGeom prst="rect">
            <a:avLst/>
          </a:prstGeom>
          <a:noFill/>
          <a:ln w="0">
            <a:noFill/>
          </a:ln>
        </p:spPr>
        <p:txBody>
          <a:bodyPr lIns="90000" rIns="90000" tIns="46800" bIns="46800" anchor="t">
            <a:normAutofit/>
          </a:bodyPr>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92d14"/>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2d14"/>
                </a:solidFill>
                <a:latin typeface="Microsoft Sans Serif"/>
                <a:ea typeface="宋体"/>
              </a:rPr>
              <a:t>Print master</a:t>
            </a:r>
            <a:endParaRPr b="0" lang="en-US" sz="4000" spc="-1" strike="noStrike">
              <a:solidFill>
                <a:srgbClr val="4d4d4d"/>
              </a:solidFill>
              <a:latin typeface="Microsoft Sans Serif"/>
            </a:endParaRPr>
          </a:p>
        </p:txBody>
      </p:sp>
      <p:sp>
        <p:nvSpPr>
          <p:cNvPr id="573"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b92d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92d14"/>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74" name="Group 2"/>
          <p:cNvGrpSpPr/>
          <p:nvPr/>
        </p:nvGrpSpPr>
        <p:grpSpPr>
          <a:xfrm>
            <a:off x="0" y="0"/>
            <a:ext cx="8466120" cy="6858000"/>
            <a:chOff x="0" y="0"/>
            <a:chExt cx="8466120" cy="6858000"/>
          </a:xfrm>
        </p:grpSpPr>
        <p:sp>
          <p:nvSpPr>
            <p:cNvPr id="57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欢迎访问</a:t>
              </a:r>
              <a:r>
                <a:rPr b="1" lang="en-US" sz="4000" spc="-1" strike="noStrike">
                  <a:solidFill>
                    <a:srgbClr val="000000"/>
                  </a:solidFill>
                  <a:latin typeface="微软雅黑"/>
                  <a:ea typeface="微软雅黑"/>
                </a:rPr>
                <a:t>PPT</a:t>
              </a:r>
              <a:r>
                <a:rPr b="1" lang="en-US" sz="4000" spc="-1" strike="noStrike">
                  <a:solidFill>
                    <a:srgbClr val="000000"/>
                  </a:solidFill>
                  <a:latin typeface="微软雅黑"/>
                  <a:ea typeface="微软雅黑"/>
                </a:rPr>
                <a:t>之家</a:t>
              </a:r>
              <a:r>
                <a:rPr b="1" lang="en-US" sz="4000" spc="-1" strike="noStrike">
                  <a:solidFill>
                    <a:srgbClr val="000000"/>
                  </a:solidFill>
                  <a:latin typeface="微软雅黑"/>
                  <a:ea typeface="微软雅黑"/>
                </a:rPr>
                <a:t>--- eeppt.com </a:t>
              </a:r>
              <a:endParaRPr b="0" lang="en-US" sz="4000" spc="-1" strike="noStrike">
                <a:solidFill>
                  <a:srgbClr val="4d4d4d"/>
                </a:solidFill>
                <a:latin typeface="Arial"/>
              </a:endParaRPr>
            </a:p>
          </p:txBody>
        </p:sp>
        <p:pic>
          <p:nvPicPr>
            <p:cNvPr id="57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7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免费</a:t>
              </a:r>
              <a:r>
                <a:rPr b="1" lang="en-US" sz="3200" spc="-1" strike="noStrike">
                  <a:solidFill>
                    <a:srgbClr val="0070c0"/>
                  </a:solidFill>
                  <a:latin typeface="微软雅黑"/>
                  <a:ea typeface="微软雅黑"/>
                </a:rPr>
                <a:t>ppt</a:t>
              </a:r>
              <a:r>
                <a:rPr b="1" lang="en-US"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en-US"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a</cp:lastModifiedBy>
  <dcterms:modified xsi:type="dcterms:W3CDTF">2014-12-15T17:41:36Z</dcterms:modified>
  <cp:revision>26</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