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114-7B49-43D6-BE18-200BA1D7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E93-5D8A-4ED0-BFC4-D40C532E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B04-0A13-4305-BB14-C5C5B4A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387-C79B-4E4A-B045-7AB186A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965-0FF7-45E4-8825-A505D395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09D-EA6D-4A77-A146-EAFB400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0BE-F7DA-4ACE-A1AD-8300AED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562-F94A-4E2D-855A-3BCDB85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F06-24FD-466B-BBD4-E1E8F3E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AE0-B75A-4E47-A371-70676532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DA4-9AC1-4A46-93F3-E5CCE51D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7C7-A4C4-42C6-98E8-8BB34BBA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01B-F224-494F-BB95-5AD51B3A7C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fe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C92-88EC-4B79-898E-4FC2A624B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82160" cy="19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efefe9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040" y="4724280"/>
            <a:ext cx="646596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efefe9"/>
                </a:solidFill>
                <a:latin typeface="Arial"/>
              </a:rPr>
              <a:t>                   </a:t>
            </a:r>
            <a:endParaRPr b="1" lang="en-US" sz="2800" spc="-1" strike="noStrike">
              <a:solidFill>
                <a:srgbClr val="efefe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efe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fefe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fefe9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f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0:07:59Z</dcterms:created>
  <dc:creator>deng haifeng</dc:creator>
  <dc:description/>
  <dc:language>en-US</dc:language>
  <cp:lastModifiedBy>a</cp:lastModifiedBy>
  <cp:lastPrinted>2000-08-30T13:14:01Z</cp:lastPrinted>
  <dcterms:modified xsi:type="dcterms:W3CDTF">2014-12-21T05:45:04Z</dcterms:modified>
  <cp:revision>314</cp:revision>
  <dc:subject/>
  <dc:title>现代财务管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