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2F3-4F9E-41E6-862A-44F7BDE6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C44-7EB4-4C9F-9DFE-074DC611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B1C-93D7-47E3-B783-C8453CF1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CFA-6887-4416-A417-ED55EE3B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7C8F-8D4F-4D6F-A993-AE26A3C6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402C-A98C-426D-89BA-0B71F6BD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A6CB-560F-40F3-9BFE-E426C62D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B10F-C1B2-438E-84F7-8DA9A9C7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B84E-738C-401B-B020-42212F6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BFEF-EAB5-42AD-8767-317F148E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BD45-41F7-4974-8265-9EAF9B5B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D67-0CF7-414B-BAAB-D44E9265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05D4-7656-495B-9FFA-5504B014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1801-2EDC-4630-A3F9-9F75E7A9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1946-6C08-48DA-98EC-F85BDA27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9B4E-F005-4B44-B283-DE700141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E312-AA8B-413E-A1D1-07341A2A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80F-CFE2-4428-BEC0-E02E63E6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49F-1339-4BD4-9193-165E31F0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65B-C47F-4C56-88B7-06B67AB8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FD5-CD3D-4A9F-8CB6-0DE91FD7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516-01EE-44EC-BA24-725AD3E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5C5-130C-4DF6-BC5D-D31AE1EB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AD1-C5A1-44F7-B7BB-7A7904D0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E1A9-F2FE-4C34-A019-A013BB59272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C1CB-C2E9-486B-B853-554262B3C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56C3-D68A-4D7D-A370-AD789C5AFDF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D2F1-787B-47C9-919A-536963D882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七色几何图形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E6E2-537C-4CAA-85E4-266ED1F07B75}" type="datetime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9ADC-90EA-47D8-B62B-7B02199411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00:53Z</dcterms:created>
  <dc:creator>Nan Shastry</dc:creator>
  <dc:description/>
  <dc:language>en-US</dc:language>
  <cp:lastModifiedBy>a</cp:lastModifiedBy>
  <dcterms:modified xsi:type="dcterms:W3CDTF">2014-12-15T17:55:34Z</dcterms:modified>
  <cp:revision>7</cp:revision>
  <dc:subject/>
  <dc:title>Artist: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