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C43-FA5A-4E9F-8B2D-DF02E40E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35F-DCEC-40ED-BCF1-9FA792E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282E5-9C24-4218-A48E-8A0FBB4D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1B490-AEA6-4C27-AAA1-D516D06A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F831-C0EC-42FC-819B-750EAEF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2E176-76FD-45EA-B5A3-ECB86D9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5F469-BDCC-49A3-B518-F74C8CF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1E271-46D0-4077-8395-3B0C6614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FD13B-FCBA-4792-80EF-69B83486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DA576-089D-4601-8C8D-F7E94415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A6FD2-49F1-49A8-8858-02888E2E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9F339-3BB9-4D54-B8FB-0B593E1A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105-098D-40CE-9800-B50155FC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1F0C-1B97-4AA8-9040-B4C34092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65C70-7A6A-4EE5-95E8-FB75AA69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E94DB-A399-4E7B-8228-95B124F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44E70-9FFE-4254-A8AE-87E9CF7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A40B5-89B9-49CA-BC5D-9BE13E4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483F1-EE55-4723-8EAF-1820A5E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506B-C920-4265-9759-9B694213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0B239-6350-4DEC-A1E8-2D0B1D7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9F535-6AB5-4C49-87DA-143D425E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2B64B-66D7-4020-B5D6-B5EC3581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F65-96BE-4196-B8D4-7E024BB4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7D9A7-5C7A-4B89-9166-63E5791D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F53AA-0F4D-4B05-B79B-C4894DDB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DF111-5289-41AD-86A2-979BBC3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40B7F-B41F-49CB-B820-CE1377E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00C54-8A5D-4311-8552-B0BF6B8F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6A65-0830-4F08-B08E-6A310032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E558-70FA-4DB1-B530-294D772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C30D-C886-4FA5-B87C-FC964ED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C6320-5AEB-463B-BD56-16896D4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C95B-E4B9-44D0-9643-18732B38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53AD-D729-4A65-AC2B-0BA7A39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A9664-2607-4B3D-AA8C-85037B9D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90C74-3C43-484F-A897-37385870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44F09-1AAB-46D4-A56B-0A1A410B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85311-283B-4750-BD28-099C74BF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9DE54-6FC5-4DF4-8E3F-00F22B4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8B1CE-140B-4705-96B6-6ECFA98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271DD-8991-4879-9ADE-6CBCB56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B0B30-7282-46F8-A020-8218CF9F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7754E-83AE-4700-A73F-1AD0086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396DB-3102-49E4-AD42-AB05682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0631-49BC-44B9-BD39-91D6DEF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2FDE9-3AC0-4FC6-8ED5-7D70982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5898C-3EC1-4452-94D0-0D5A8171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9BE03-B5C6-4B61-8434-EAFD791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B2E9F-D981-4B96-8F59-BC740FDB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77862-C49C-4958-9044-32F268BE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CBD38-747D-434D-B504-7BD36996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DBFA2-AB21-4F89-8067-294218A0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AF198-F71E-42A5-9C9D-59C11C5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8D8CF-E814-416B-A700-5DB7658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ED0E8-4389-4D10-BFAA-06E3CD98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35C-370B-4796-806B-1A60D207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4D472-67BD-406C-942E-42612F0A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F0B9B-E3E6-4483-AFB5-E2FCE3D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6E1BF-1CFC-4B61-8164-A164D07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A1E8E-D9B4-4E0A-8DEE-4475B54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88E23-8F30-463F-9590-76C23C92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AAE8E-C8DF-4B59-AFEE-EB835274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616B8-F090-4D35-8488-7A421867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12197-B95D-415D-9055-B8A1D368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096C1-6AC4-4A18-A15B-C98F8BCE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2B472-1236-4F41-865B-F08AA57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D6B1-5053-41C2-AA21-909AD45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C98D3-8503-4042-A9BD-4D5E3A0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95C26-BB54-4634-88F5-DD357787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FB908-97A3-4107-8FE1-04B0A245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080F4-9534-4E89-B251-3F2210F2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3FA02-5359-431F-B553-202AB54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54152-D59E-4D21-93EA-5BD5BCF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28EB5-9297-4B08-8D5D-DBE72D03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DAF3F-F861-40B2-B7AE-4438AF5E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B8B71-4784-4F6A-ADCA-19803C7F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EB531-729E-47BD-A72D-78AA79F5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8D4-E9DE-4D44-BC4B-3A28090B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584D4-F97A-4027-B584-7C44DBB7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96192-4383-4D97-9427-B7D3D5C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F1442-580E-4822-8C0D-86D0665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D76CE-3EC4-4535-B486-00775736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ECEF4-B00E-4FFB-B540-B3471663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9651F-13ED-4B5A-BE7D-F9FB44C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0B82E-A28E-4246-9E7C-FE377C2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66ACC-3DF7-412D-ACED-8F13D87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F53BB-8D80-4AE1-BAFC-B130D1F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11737-4B29-4947-A767-A0F67EBB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62D0-78AB-44C3-8ABB-0ED0FD34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1A4FF-B2DE-488B-B1A3-9258EF03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D25-195D-4E16-AC97-1824B77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507-5270-4A1B-94F0-5E6AE47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3661-0254-4D1C-975C-45B99E3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0861-288C-4AA7-82A4-4CBAC83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A0A2-8E90-48D5-AB57-4416CA36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6E5-8600-4C66-B245-ABEE8FCF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AADB-0A51-4BC7-B24B-14DB83B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81356-B7CB-451F-81AA-7D848B40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4017-ECB7-4D9B-A903-4666EB03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C5B1-6390-47CA-A1E9-E5B9C0B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A9FA-8A38-4308-BD0D-33FC443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5216-59A0-420D-9420-8B544454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011-A6B0-4E0C-87E3-91C67E7E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0B82E-A955-4AF9-993D-326A0E80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A451-1C75-4A3C-AEBC-D1901BA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79F3-1972-45D7-9DBA-71F58B5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C4E3-562E-442B-8ED9-F3F93EB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2727-610D-4EEB-8398-455C00C1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B768-AE4E-4AAB-9B4D-A572E8CC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4628-AB80-4B2F-8EA5-D474EDC9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6BFF-A5AF-4F2B-8D6D-964E64CB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36E3-325C-43B7-91D0-AB6DBC7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90BE6-6AA0-4CA5-95C1-7C00401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07E-04C3-4B26-8626-57020C2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0E74A-73A7-4DA4-91EE-BCA22185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9D9A-4568-431E-B310-0796300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D80E-5D9D-4704-8FEC-174F7CF4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F167-F599-4460-AF24-0A8E4199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8E04-58A4-4FFA-9860-637A8A8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14BE-E5FE-4ADC-95E7-5450BD3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CD64-901F-436A-B92E-7DF0BD13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5AB5-FE14-4E03-AD46-7049EE34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47A5F-1F64-4BC0-AC1F-33A535B4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D0E7-CC59-4669-8B7D-2BB516FF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581-2757-4F21-B1A7-193F12D5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F4F7-2669-444D-BC54-BB37BC0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3C5E-65C9-4798-8E78-D68F8BB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56511-D16D-4FB4-A201-69D5DE1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972E0-A97F-4EC0-B0C9-11A3BD7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E92C-5472-4E1D-A3B8-CDCB8A7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2BFE-16CF-4F25-94CE-7900E9A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58CE7-59CE-4798-A740-0716D1F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14ED-FB97-4B1E-80BD-CAB12A5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0D5E-AD03-4816-AD01-1AE476C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00AF0-CDB1-4E70-8AF1-24F1A1C6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CD4-CA5C-4F26-8B6C-BA00453C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2C12B-59E1-4836-B712-E78C51BD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E028-881F-4E30-8531-109DADB1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C41FF-29F9-42E1-8538-6AF1E750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2C540-2699-49ED-B734-8A1A5CF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043E2-D2DB-4DFA-9039-6CC9B1C8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A104-4191-433C-8839-CD85337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3DBB0-3F1F-47C0-B696-59238BF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A9580-7A1C-48CD-BB2A-0A8E57A2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4AFB7-3D7A-45B2-BFFB-0EC9899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A0E5-AF98-4DBF-97D3-CFAFD1C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1A0-3DCF-42E8-90B8-98FF376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F46A-3CE8-411E-B4B4-7F6DF5E7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F0BA-CDF3-4548-B948-0A20E2DC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7FFC-D996-4A00-8EE2-F7E6E665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CD1E-0A26-4930-925A-C7F6DB2A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F794C-7BFF-4E33-AD65-D2453CA9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D096-BE2A-45C7-8E17-0A89C67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C80E-3578-47B6-BB30-67B0FDA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4D227-F694-4C75-B66D-1338F1B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2599F-6E90-4F66-A20A-6285E8D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1400F-0353-407B-9CCA-6F0663B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6B0-5CB0-469C-A955-630BE81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FF878-EE69-47DE-81D9-84A1F8B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B3500-91D8-4515-9134-9FC93F6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14B18-D0CB-4422-B4FE-01015C7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B06A-FCCF-4314-8FDD-D8D64D64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2C7ED-0E99-4D62-ACB6-A84C716D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CF8B-BE69-433D-AF8D-8427BC48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F2C4-0293-4B9C-9962-B39DAEB9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252E6-07E9-41F9-B526-B6CEEE27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BD71-44A9-4E06-A2EF-2D7DAAAD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7001-6A0D-49F6-8526-81FC8DF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7C7-1DBD-4266-8D4C-E80A3CE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D1B7-E35C-44C8-A7D5-A22EBAB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1D6B-17C8-4B97-A674-86773CC0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47FE8-EE17-499C-86D8-2E8DAD4E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D077-FB0A-4D67-8658-FCB24B0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382E-F019-48CD-81D5-3325FDA6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646F-FFEA-4D17-85E4-DAC7B976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8D0A-FA1F-436A-8E31-08445C53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C90A8-3947-4CC4-A19D-B6D1DC07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8DD9-9962-4930-951C-888D1511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37465-A916-4FFD-BDD6-5FF5D78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6B1-29FB-4763-8664-92F7BAA5C1C9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6068-CF80-4A23-BD2F-E186A394E0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784-ECB2-496E-8856-6BB90B4717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DCF8-B92E-464D-A63B-9E7A55ED71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D8A-4992-4F01-A8BF-D11AC5FB7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9F10-3AEC-4744-B668-B1CFD07820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1E8D-5987-499A-9234-9C722B69F4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D277-E2D0-4637-9F30-7B83BC88F5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714-DADE-4765-89D6-32F571C874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4AA-F7C7-4E75-8F4A-8E76221EC1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C4D-9776-47D8-B460-FF86D655FE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659A-4655-4187-9358-8575353C81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913F-84BA-43C4-A491-5B9E765F9E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4D70-302B-4A3C-A3E2-8015BBC7F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24964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24964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2732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3"/>
          <a:stretch/>
        </p:blipFill>
        <p:spPr>
          <a:xfrm>
            <a:off x="3116160" y="223848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4"/>
          <a:stretch/>
        </p:blipFill>
        <p:spPr>
          <a:xfrm>
            <a:off x="2563920" y="206064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2484360" y="177336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9F58-9970-43F6-AC3A-D6FE03A036A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1094-9492-4F97-95EA-1AADE06CEC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A9F-B625-4CDD-9E6B-294416867F21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020F-5A8E-4490-8750-F2655A51B4E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BDB-B444-469C-B353-7216D8E49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B78-AD37-43B0-88F7-B030B6B4F1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B78-7895-41E1-A726-B6A7B1B41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257-B707-4E46-BF75-8A50958520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BC4A-EFEC-48F9-B061-3C16BB0463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4F93-B159-4B75-A19D-C7F7BA2A2C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092C-4D79-4F2E-8DF4-F71CD89B11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D79-066D-42B2-B2A9-914E19EA6C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B21E-11E6-449C-95BE-14DAFEF1FF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2209680" y="3733560"/>
            <a:ext cx="556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1294920" y="2053800"/>
            <a:ext cx="71629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EB7A-B317-421D-9EFC-FC853FAF6127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首页主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副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2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内页标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中文微软雅黑英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Arial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）加粗；内页内容文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</a:rPr>
              <a:t>号（微软雅黑）</a:t>
            </a: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灯片编号占位符 5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28A8-0835-4F45-A025-16832BF7CB98}" type="slidenum"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icrosoft JhengHei"/>
              </a:rPr>
              <a:t>按一下添加标题</a:t>
            </a:r>
            <a:endParaRPr b="1" lang="en-US" sz="3600" spc="-1" strike="noStrike">
              <a:solidFill>
                <a:srgbClr val="ffffff"/>
              </a:solidFill>
              <a:latin typeface="Microsoft JhengHei"/>
            </a:endParaRPr>
          </a:p>
        </p:txBody>
      </p:sp>
      <p:graphicFrame>
        <p:nvGraphicFramePr>
          <p:cNvPr id="635" name="Object 3"/>
          <p:cNvGraphicFramePr/>
          <p:nvPr/>
        </p:nvGraphicFramePr>
        <p:xfrm>
          <a:off x="1219320" y="1830240"/>
          <a:ext cx="655164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30240"/>
                    <a:ext cx="65516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490480" y="3962520"/>
            <a:ext cx="3986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之家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162920" y="5335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3048120" y="23623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9999"/>
                  </a:outerShdw>
                </a:effectLst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999999"/>
                </a:outerShdw>
              </a:effectLst>
              <a:latin typeface="SimHei"/>
              <a:ea typeface="SimHei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76320" y="2498400"/>
            <a:ext cx="2971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ffffff">
                        <a:alpha val="40000"/>
                      </a:srgbClr>
                    </a:gs>
                  </a:gsLst>
                  <a:lin ang="5400000"/>
                </a:gradFill>
                <a:latin typeface="SimHei"/>
              </a:rPr>
              <a:t>感谢观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ffffff">
                      <a:alpha val="40000"/>
                    </a:srgbClr>
                  </a:gs>
                </a:gsLst>
                <a:lin ang="5400000"/>
              </a:gradFill>
              <a:latin typeface="SimHei"/>
              <a:ea typeface="SimHe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42:21Z</dcterms:created>
  <dc:creator>Rhea</dc:creator>
  <dc:description>www.nordridesign.cn
</dc:description>
  <cp:keywords/>
  <dc:language>en-US</dc:language>
  <cp:lastModifiedBy>a</cp:lastModifiedBy>
  <dcterms:modified xsi:type="dcterms:W3CDTF">2014-05-24T09:28:05Z</dcterms:modified>
  <cp:revision>22</cp:revision>
  <dc:subject/>
  <dc:title>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Version">
    <vt:r8>1</vt:r8>
  </property>
</Properties>
</file>