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17C-8C58-4FCB-B813-857BAB87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BAF-06B6-4902-8542-081C363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E2F-6A87-4D22-BF48-41AFACC4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032-5823-4583-A222-01B759CC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89E9-A44F-418E-997A-670E57EE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17D0-1A78-44F0-854F-C1377795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B3BC-0741-4F18-9EB1-2DF6C758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F123-1E1E-4180-BCF0-BA312CF2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5121-5213-4AD8-8CBF-4AE35FA7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EF41-BD64-4262-B8AA-EDED900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10EE-1BE3-4D0F-A174-19B09A6B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603-FD87-46EA-ADB5-E6055409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1941-2CE0-4CDE-9B00-3FF8E17D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3B2B-61A8-47BB-AF43-5941BE62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B4CC-B284-44EC-A1EB-DE3A2615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C0AF-5C3D-427E-8D9E-10F11420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CC51-57D1-46AC-92CC-41DD92CA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BB1-D51D-4978-BC5C-D316B7EA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EAF-3FF2-4056-92EF-C8D500CA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96F-46F5-4EF3-A444-A8F0B6BA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2D3-C29D-48F4-9029-B9262F7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ACC-3DA1-4C34-8501-77590DB1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FD6-DA9C-4539-A4D7-2C3F467D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580-0E00-44CF-810B-9FAFE3D1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A7A2-1C8A-478D-A5A4-A807FBCF096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E520-BD99-4FE8-AAE2-BB3826B184D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028-5B20-446C-9D68-D3F440F452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0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山地自行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600880"/>
            <a:ext cx="64008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8102520" y="6638760"/>
            <a:ext cx="936720" cy="1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3:25:36Z</dcterms:created>
  <dc:creator/>
  <dc:description/>
  <dc:language>en-US</dc:language>
  <cp:lastModifiedBy/>
  <dcterms:modified xsi:type="dcterms:W3CDTF">2014-12-15T17:46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