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23E-86D5-4BC8-883D-CCD56872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9DF-2B7F-4C07-B668-7E2FCF3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93A-C6C9-4378-89AE-8E00E80A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62B-D69C-4760-9F40-A7CA5FB8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80A-E86F-46B1-A02D-D6EB81AD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CB8-7CFD-45DC-B6F1-7E0E262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BB2-8376-453B-A061-F9473500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831-FBB2-4F79-A726-CE13651B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EFE-914A-4439-BE44-4F3834CE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8F6-3128-4CDA-B9EE-FA3219E0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A89-5CE7-45A5-83DA-9BC7F00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569-BB1F-42FC-A54E-33EE846F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D3DC-4580-48D1-BDF6-2378C1F330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3689280" y="1930320"/>
            <a:ext cx="520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水晶蓝商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50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77da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52" name="Group 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53" name="Group 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54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Group 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59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" name="Group 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64" name="Group 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65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70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75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76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82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87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88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93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7" name="Group 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98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1759a9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00" name="Group 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01" name="Group 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02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07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" name="Group 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12" name="Group 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13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118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2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23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24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25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30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35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36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41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5" name="Group 1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46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53a9f7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48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49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50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55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160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161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166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0" name="Group 1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171" name="Group 1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172" name="Group 1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173" name="Group 1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174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Group 1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179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Group 1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184" name="Group 1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185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190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4" name="Group 1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195" name="Group 1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196" name="Group 1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197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1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02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Group 1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07" name="Group 1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08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Group 1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13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7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18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53275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20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21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22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27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1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232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33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1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238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2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43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44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45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46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51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5" name="Group 210"/>
                <p:cNvGrpSpPr/>
                <p:nvPr/>
              </p:nvGrpSpPr>
              <p:grpSpPr>
                <a:xfrm>
                  <a:off x="2051280" y="1178280"/>
                  <a:ext cx="352800" cy="312480"/>
                  <a:chOff x="2051280" y="1178280"/>
                  <a:chExt cx="352800" cy="312480"/>
                </a:xfrm>
              </p:grpSpPr>
              <p:grpSp>
                <p:nvGrpSpPr>
                  <p:cNvPr id="256" name="Group 211"/>
                  <p:cNvGrpSpPr/>
                  <p:nvPr/>
                </p:nvGrpSpPr>
                <p:grpSpPr>
                  <a:xfrm>
                    <a:off x="2051280" y="1178280"/>
                    <a:ext cx="334440" cy="235440"/>
                    <a:chOff x="2051280" y="1178280"/>
                    <a:chExt cx="334440" cy="235440"/>
                  </a:xfrm>
                </p:grpSpPr>
                <p:sp>
                  <p:nvSpPr>
                    <p:cNvPr id="257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16"/>
                  <p:cNvGrpSpPr/>
                  <p:nvPr/>
                </p:nvGrpSpPr>
                <p:grpSpPr>
                  <a:xfrm>
                    <a:off x="2138040" y="1179720"/>
                    <a:ext cx="266040" cy="311040"/>
                    <a:chOff x="2138040" y="1179720"/>
                    <a:chExt cx="266040" cy="311040"/>
                  </a:xfrm>
                </p:grpSpPr>
                <p:sp>
                  <p:nvSpPr>
                    <p:cNvPr id="262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6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267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268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269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274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8" name="Group 233"/>
                <p:cNvGrpSpPr/>
                <p:nvPr/>
              </p:nvGrpSpPr>
              <p:grpSpPr>
                <a:xfrm>
                  <a:off x="2068200" y="1189800"/>
                  <a:ext cx="352800" cy="312480"/>
                  <a:chOff x="2068200" y="1189800"/>
                  <a:chExt cx="352800" cy="312480"/>
                </a:xfrm>
              </p:grpSpPr>
              <p:grpSp>
                <p:nvGrpSpPr>
                  <p:cNvPr id="279" name="Group 234"/>
                  <p:cNvGrpSpPr/>
                  <p:nvPr/>
                </p:nvGrpSpPr>
                <p:grpSpPr>
                  <a:xfrm>
                    <a:off x="2068200" y="1189800"/>
                    <a:ext cx="334440" cy="235440"/>
                    <a:chOff x="2068200" y="1189800"/>
                    <a:chExt cx="334440" cy="235440"/>
                  </a:xfrm>
                </p:grpSpPr>
                <p:sp>
                  <p:nvSpPr>
                    <p:cNvPr id="280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239"/>
                  <p:cNvGrpSpPr/>
                  <p:nvPr/>
                </p:nvGrpSpPr>
                <p:grpSpPr>
                  <a:xfrm>
                    <a:off x="2155320" y="1190880"/>
                    <a:ext cx="265680" cy="311400"/>
                    <a:chOff x="2155320" y="1190880"/>
                    <a:chExt cx="265680" cy="311400"/>
                  </a:xfrm>
                </p:grpSpPr>
                <p:sp>
                  <p:nvSpPr>
                    <p:cNvPr id="285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89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00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293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e8ac04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02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295" name="Group 103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296" name="Group 104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297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109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02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07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08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13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7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18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19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20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21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26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31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32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37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1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42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43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44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49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3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54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55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360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64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381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53275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384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1759a9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387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77da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390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e8ac04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4"/>
          <p:cNvSpPr txBox="1"/>
          <p:nvPr/>
        </p:nvSpPr>
        <p:spPr>
          <a:xfrm>
            <a:off x="5054760" y="29653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01" name="WordArt 5"/>
          <p:cNvSpPr txBox="1"/>
          <p:nvPr/>
        </p:nvSpPr>
        <p:spPr>
          <a:xfrm>
            <a:off x="5532480" y="3679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0:50:44Z</dcterms:created>
  <dc:creator>北京锐得幻演广告有限公司</dc:creator>
  <dc:description/>
  <dc:language>en-US</dc:language>
  <cp:lastModifiedBy>a</cp:lastModifiedBy>
  <dcterms:modified xsi:type="dcterms:W3CDTF">2014-12-26T05:19:49Z</dcterms:modified>
  <cp:revision>348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